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703908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1"/>
          </p:nvPr>
        </p:nvSpPr>
        <p:spPr>
          <a:xfrm>
            <a:off x="456840" y="8562960"/>
            <a:ext cx="304956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65920" y="8827920"/>
            <a:ext cx="7844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95FB67C6-F170-4BBA-82D8-EC948DC38C1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2571480" y="836280"/>
            <a:ext cx="4057560" cy="304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Click to move the slide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9" name=""/>
          <p:cNvSpPr/>
          <p:nvPr/>
        </p:nvSpPr>
        <p:spPr>
          <a:xfrm>
            <a:off x="447840" y="4572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640" rIns="107640" tIns="-53640" bIns="-53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2552760" y="4114800"/>
            <a:ext cx="40766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836640"/>
            <a:ext cx="16765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ZapfHumnst BT"/>
              </a:rPr>
              <a:t>Instructor Not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5240" y="836640"/>
            <a:ext cx="0" cy="745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2571840" y="836640"/>
            <a:ext cx="4057560" cy="30430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2552760" y="4114800"/>
            <a:ext cx="40766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2571840" y="836640"/>
            <a:ext cx="4057560" cy="304308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2552760" y="4114800"/>
            <a:ext cx="40766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2571840" y="836640"/>
            <a:ext cx="4057560" cy="304308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2552760" y="4114800"/>
            <a:ext cx="40766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2571840" y="836640"/>
            <a:ext cx="4057560" cy="30430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2552760" y="4114800"/>
            <a:ext cx="40766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2571840" y="836640"/>
            <a:ext cx="4057560" cy="304308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2552760" y="4114800"/>
            <a:ext cx="40766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2571840" y="836640"/>
            <a:ext cx="4057560" cy="304308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2552760" y="4114800"/>
            <a:ext cx="40766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2571840" y="836640"/>
            <a:ext cx="4057560" cy="304308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2552760" y="4114800"/>
            <a:ext cx="40766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84280" y="1209600"/>
            <a:ext cx="1778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ZapfHumnst BT"/>
              </a:rPr>
              <a:t>Have the students use the Excel spreadsheet included with this course to facilitate this calculat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1800" y="3686760"/>
            <a:ext cx="849024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2040" y="105228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1800" y="368676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2040" y="368676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27334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2440" y="1052280"/>
            <a:ext cx="27334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052280"/>
            <a:ext cx="27334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1800" y="3686760"/>
            <a:ext cx="27334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2440" y="3686760"/>
            <a:ext cx="27334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686760"/>
            <a:ext cx="27334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414288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2040" y="1052280"/>
            <a:ext cx="414288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92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2040" y="1052280"/>
            <a:ext cx="414288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1800" y="368676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414288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2040" y="105228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2040" y="368676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21960"/>
            <a:ext cx="8999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1800" y="105228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2040" y="1052280"/>
            <a:ext cx="414288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1800" y="3686760"/>
            <a:ext cx="8490240" cy="24055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ottom%20logo" descr=""/>
          <p:cNvPicPr/>
          <p:nvPr/>
        </p:nvPicPr>
        <p:blipFill>
          <a:blip r:embed="rId2"/>
          <a:stretch/>
        </p:blipFill>
        <p:spPr>
          <a:xfrm>
            <a:off x="6553080" y="6342120"/>
            <a:ext cx="2590920" cy="515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82560" indent="-228600">
              <a:lnSpc>
                <a:spcPct val="80000"/>
              </a:lnSpc>
              <a:spcBef>
                <a:spcPts val="119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025640" indent="-228600">
              <a:lnSpc>
                <a:spcPct val="80000"/>
              </a:lnSpc>
              <a:spcBef>
                <a:spcPts val="1199"/>
              </a:spcBef>
              <a:buClr>
                <a:srgbClr val="73e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368360" indent="-22860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1711440" indent="-22860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1711440" indent="-22860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1711440" indent="-22860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6400800"/>
            <a:ext cx="4662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e1ff"/>
                </a:solidFill>
                <a:latin typeface="Arial"/>
              </a:rPr>
              <a:t>Rational Unified Process Fundamentals, v. 2000.02.1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3e1ff"/>
                </a:solidFill>
                <a:latin typeface="Arial"/>
              </a:rPr>
              <a:t>Copyright © 2000 Rational Software,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63849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7AA0-4B3A-435B-AFB3-9E2A175F685D}" type="slidenum">
              <a:rPr b="0" lang="en-US" sz="800" spc="-1" strike="noStrike">
                <a:solidFill>
                  <a:srgbClr val="73e1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5943600"/>
            <a:ext cx="1371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73e1ff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705720"/>
            <a:ext cx="6858000" cy="0"/>
          </a:xfrm>
          <a:prstGeom prst="line">
            <a:avLst/>
          </a:prstGeom>
          <a:ln w="9360">
            <a:solidFill>
              <a:srgbClr val="007e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98400"/>
            <a:ext cx="9144000" cy="0"/>
          </a:xfrm>
          <a:prstGeom prst="line">
            <a:avLst/>
          </a:prstGeom>
          <a:ln w="9360">
            <a:solidFill>
              <a:srgbClr val="73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50000">
              <a:srgbClr val="005165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endant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2971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9480" y="4191120"/>
            <a:ext cx="784872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ational Unified Process Fundamentals</a:t>
            </a:r>
            <a:br>
              <a:rPr sz="3600"/>
            </a:b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mulation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Develop a video rental system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82560" indent="-228600">
              <a:lnSpc>
                <a:spcPct val="87000"/>
              </a:lnSpc>
              <a:spcBef>
                <a:spcPts val="104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he maximum budget is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$780,000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82560" indent="-228600">
              <a:lnSpc>
                <a:spcPct val="87000"/>
              </a:lnSpc>
              <a:spcBef>
                <a:spcPts val="104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he time limit is 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43 week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chieve maximum functionalit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82560" indent="-228600">
              <a:lnSpc>
                <a:spcPct val="87000"/>
              </a:lnSpc>
              <a:spcBef>
                <a:spcPts val="104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do as many uses cases as possible before the end of the simulatio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chieve maximum qualit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82560" indent="-228600">
              <a:lnSpc>
                <a:spcPct val="87000"/>
              </a:lnSpc>
              <a:spcBef>
                <a:spcPts val="104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give correct answers to as many quality questions as possible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396200" y="1447920"/>
            <a:ext cx="6811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$$$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467480" y="1981080"/>
            <a:ext cx="638280" cy="65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20120" y="4495680"/>
            <a:ext cx="579240" cy="8272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Goal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60" name=""/>
          <p:cNvSpPr/>
          <p:nvPr/>
        </p:nvSpPr>
        <p:spPr>
          <a:xfrm>
            <a:off x="7416720" y="3581280"/>
            <a:ext cx="812880" cy="36216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61800" y="1052280"/>
            <a:ext cx="8490240" cy="50432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mulate the Elaboration and Construction phases only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Decide how many iterations to “run” in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ach phase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11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Do a project pla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82560" indent="-228600">
              <a:lnSpc>
                <a:spcPct val="87000"/>
              </a:lnSpc>
              <a:spcBef>
                <a:spcPts val="104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ubject to change as the project progresse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33520" y="4254480"/>
            <a:ext cx="8013600" cy="1044720"/>
            <a:chOff x="533520" y="4254480"/>
            <a:chExt cx="8013600" cy="1044720"/>
          </a:xfrm>
        </p:grpSpPr>
        <p:sp>
          <p:nvSpPr>
            <p:cNvPr id="63" name=""/>
            <p:cNvSpPr/>
            <p:nvPr/>
          </p:nvSpPr>
          <p:spPr>
            <a:xfrm>
              <a:off x="596880" y="4259160"/>
              <a:ext cx="7790040" cy="56844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73160" y="4375080"/>
              <a:ext cx="1084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Incep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01600" y="4375080"/>
              <a:ext cx="1299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Elabora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31120" y="4375080"/>
              <a:ext cx="1443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Constru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64120" y="4375080"/>
              <a:ext cx="1163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Transi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4280" y="4944960"/>
              <a:ext cx="796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4932360"/>
              <a:ext cx="616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0120" y="4254480"/>
              <a:ext cx="1976400" cy="576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27800" y="4255920"/>
              <a:ext cx="1951200" cy="57492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494240" y="4273560"/>
            <a:ext cx="0" cy="5461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535120" y="4245120"/>
            <a:ext cx="3940200" cy="1622160"/>
            <a:chOff x="2535120" y="4245120"/>
            <a:chExt cx="3940200" cy="1622160"/>
          </a:xfrm>
        </p:grpSpPr>
        <p:sp>
          <p:nvSpPr>
            <p:cNvPr id="74" name=""/>
            <p:cNvSpPr/>
            <p:nvPr/>
          </p:nvSpPr>
          <p:spPr>
            <a:xfrm>
              <a:off x="2827080" y="5326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#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57560" y="5326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#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48240" y="5326200"/>
              <a:ext cx="514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#n+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293440" y="5326200"/>
              <a:ext cx="31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#..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08400" y="532620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#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35120" y="4248000"/>
              <a:ext cx="120600" cy="252720"/>
            </a:xfrm>
            <a:custGeom>
              <a:avLst/>
              <a:gdLst/>
              <a:ahLst/>
              <a:rect l="l" t="t" r="r" b="b"/>
              <a:pathLst>
                <a:path w="94" h="86">
                  <a:moveTo>
                    <a:pt x="47" y="0"/>
                  </a:moveTo>
                  <a:lnTo>
                    <a:pt x="94" y="86"/>
                  </a:lnTo>
                  <a:lnTo>
                    <a:pt x="47" y="0"/>
                  </a:lnTo>
                  <a:lnTo>
                    <a:pt x="0" y="86"/>
                  </a:lnTo>
                  <a:lnTo>
                    <a:pt x="94" y="8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98480" y="4421160"/>
              <a:ext cx="0" cy="1411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18560" y="5326200"/>
              <a:ext cx="31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#..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28840" y="5048280"/>
              <a:ext cx="1440" cy="780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70160" y="4807080"/>
              <a:ext cx="108000" cy="226800"/>
            </a:xfrm>
            <a:custGeom>
              <a:avLst/>
              <a:gdLst/>
              <a:ahLst/>
              <a:rect l="l" t="t" r="r" b="b"/>
              <a:pathLst>
                <a:path w="94" h="86">
                  <a:moveTo>
                    <a:pt x="47" y="0"/>
                  </a:moveTo>
                  <a:lnTo>
                    <a:pt x="94" y="86"/>
                  </a:lnTo>
                  <a:lnTo>
                    <a:pt x="47" y="0"/>
                  </a:lnTo>
                  <a:lnTo>
                    <a:pt x="0" y="86"/>
                  </a:lnTo>
                  <a:lnTo>
                    <a:pt x="94" y="86"/>
                  </a:lnTo>
                  <a:lnTo>
                    <a:pt x="47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94120" y="5046480"/>
              <a:ext cx="1440" cy="781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35440" y="4805280"/>
              <a:ext cx="107640" cy="227160"/>
            </a:xfrm>
            <a:custGeom>
              <a:avLst/>
              <a:gdLst/>
              <a:ahLst/>
              <a:rect l="l" t="t" r="r" b="b"/>
              <a:pathLst>
                <a:path w="94" h="86">
                  <a:moveTo>
                    <a:pt x="47" y="0"/>
                  </a:moveTo>
                  <a:lnTo>
                    <a:pt x="94" y="86"/>
                  </a:lnTo>
                  <a:lnTo>
                    <a:pt x="47" y="0"/>
                  </a:lnTo>
                  <a:lnTo>
                    <a:pt x="0" y="86"/>
                  </a:lnTo>
                  <a:lnTo>
                    <a:pt x="94" y="86"/>
                  </a:lnTo>
                  <a:lnTo>
                    <a:pt x="47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76800" y="5057640"/>
              <a:ext cx="1440" cy="781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18120" y="4816440"/>
              <a:ext cx="107640" cy="227160"/>
            </a:xfrm>
            <a:custGeom>
              <a:avLst/>
              <a:gdLst/>
              <a:ahLst/>
              <a:rect l="l" t="t" r="r" b="b"/>
              <a:pathLst>
                <a:path w="94" h="86">
                  <a:moveTo>
                    <a:pt x="47" y="0"/>
                  </a:moveTo>
                  <a:lnTo>
                    <a:pt x="94" y="86"/>
                  </a:lnTo>
                  <a:lnTo>
                    <a:pt x="47" y="0"/>
                  </a:lnTo>
                  <a:lnTo>
                    <a:pt x="0" y="86"/>
                  </a:lnTo>
                  <a:lnTo>
                    <a:pt x="94" y="86"/>
                  </a:lnTo>
                  <a:lnTo>
                    <a:pt x="47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14720" y="5057640"/>
              <a:ext cx="1800" cy="781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56040" y="4816440"/>
              <a:ext cx="108000" cy="227160"/>
            </a:xfrm>
            <a:custGeom>
              <a:avLst/>
              <a:gdLst/>
              <a:ahLst/>
              <a:rect l="l" t="t" r="r" b="b"/>
              <a:pathLst>
                <a:path w="94" h="86">
                  <a:moveTo>
                    <a:pt x="47" y="0"/>
                  </a:moveTo>
                  <a:lnTo>
                    <a:pt x="94" y="86"/>
                  </a:lnTo>
                  <a:lnTo>
                    <a:pt x="47" y="0"/>
                  </a:lnTo>
                  <a:lnTo>
                    <a:pt x="0" y="86"/>
                  </a:lnTo>
                  <a:lnTo>
                    <a:pt x="94" y="86"/>
                  </a:lnTo>
                  <a:lnTo>
                    <a:pt x="47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32320" y="4272120"/>
              <a:ext cx="110880" cy="253800"/>
            </a:xfrm>
            <a:custGeom>
              <a:avLst/>
              <a:gdLst/>
              <a:ahLst/>
              <a:rect l="l" t="t" r="r" b="b"/>
              <a:pathLst>
                <a:path w="94" h="86">
                  <a:moveTo>
                    <a:pt x="47" y="0"/>
                  </a:moveTo>
                  <a:lnTo>
                    <a:pt x="94" y="86"/>
                  </a:lnTo>
                  <a:lnTo>
                    <a:pt x="47" y="0"/>
                  </a:lnTo>
                  <a:lnTo>
                    <a:pt x="0" y="86"/>
                  </a:lnTo>
                  <a:lnTo>
                    <a:pt x="94" y="8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1000" y="4446720"/>
              <a:ext cx="0" cy="1420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54720" y="4245120"/>
              <a:ext cx="120600" cy="252360"/>
            </a:xfrm>
            <a:custGeom>
              <a:avLst/>
              <a:gdLst/>
              <a:ahLst/>
              <a:rect l="l" t="t" r="r" b="b"/>
              <a:pathLst>
                <a:path w="94" h="86">
                  <a:moveTo>
                    <a:pt x="47" y="0"/>
                  </a:moveTo>
                  <a:lnTo>
                    <a:pt x="94" y="86"/>
                  </a:lnTo>
                  <a:lnTo>
                    <a:pt x="47" y="0"/>
                  </a:lnTo>
                  <a:lnTo>
                    <a:pt x="0" y="86"/>
                  </a:lnTo>
                  <a:lnTo>
                    <a:pt x="94" y="8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18080" y="4417920"/>
              <a:ext cx="0" cy="1411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Phases and Iterations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How the Simulation Runs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2120" y="738360"/>
          <a:ext cx="7467480" cy="5586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38360"/>
                    <a:ext cx="7467480" cy="55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568440" y="4780080"/>
            <a:ext cx="8013600" cy="1412280"/>
            <a:chOff x="568440" y="4780080"/>
            <a:chExt cx="8013600" cy="1412280"/>
          </a:xfrm>
        </p:grpSpPr>
        <p:sp>
          <p:nvSpPr>
            <p:cNvPr id="99" name=""/>
            <p:cNvSpPr/>
            <p:nvPr/>
          </p:nvSpPr>
          <p:spPr>
            <a:xfrm>
              <a:off x="631800" y="4792680"/>
              <a:ext cx="7790040" cy="49536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08080" y="4892760"/>
              <a:ext cx="1084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Incep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936520" y="4892760"/>
              <a:ext cx="1299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69696"/>
                  </a:solidFill>
                  <a:latin typeface="Arial"/>
                </a:rPr>
                <a:t>Elabora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66040" y="4892760"/>
              <a:ext cx="1443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Constru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99040" y="4892760"/>
              <a:ext cx="1163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Transi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9200" y="5389560"/>
              <a:ext cx="796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8440" y="5378400"/>
              <a:ext cx="616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5040" y="4788000"/>
              <a:ext cx="1976400" cy="5014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62720" y="4789440"/>
              <a:ext cx="1951200" cy="50004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70040" y="4782960"/>
              <a:ext cx="120600" cy="1379520"/>
              <a:chOff x="2570040" y="4782960"/>
              <a:chExt cx="120600" cy="1379520"/>
            </a:xfrm>
          </p:grpSpPr>
          <p:sp>
            <p:nvSpPr>
              <p:cNvPr id="109" name=""/>
              <p:cNvSpPr/>
              <p:nvPr/>
            </p:nvSpPr>
            <p:spPr>
              <a:xfrm>
                <a:off x="2570040" y="4782960"/>
                <a:ext cx="120600" cy="219960"/>
              </a:xfrm>
              <a:custGeom>
                <a:avLst/>
                <a:gdLst/>
                <a:ahLst/>
                <a:rect l="l" t="t" r="r" b="b"/>
                <a:pathLst>
                  <a:path w="94" h="86">
                    <a:moveTo>
                      <a:pt x="47" y="0"/>
                    </a:moveTo>
                    <a:lnTo>
                      <a:pt x="94" y="86"/>
                    </a:lnTo>
                    <a:lnTo>
                      <a:pt x="47" y="0"/>
                    </a:lnTo>
                    <a:lnTo>
                      <a:pt x="0" y="86"/>
                    </a:lnTo>
                    <a:lnTo>
                      <a:pt x="94" y="86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633400" y="4933440"/>
                <a:ext cx="0" cy="12290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205080" y="5268960"/>
              <a:ext cx="108000" cy="890280"/>
              <a:chOff x="3205080" y="5268960"/>
              <a:chExt cx="108000" cy="890280"/>
            </a:xfrm>
          </p:grpSpPr>
          <p:sp>
            <p:nvSpPr>
              <p:cNvPr id="112" name=""/>
              <p:cNvSpPr/>
              <p:nvPr/>
            </p:nvSpPr>
            <p:spPr>
              <a:xfrm>
                <a:off x="3263760" y="5478840"/>
                <a:ext cx="1440" cy="680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05080" y="5268960"/>
                <a:ext cx="108000" cy="197640"/>
              </a:xfrm>
              <a:custGeom>
                <a:avLst/>
                <a:gdLst/>
                <a:ahLst/>
                <a:rect l="l" t="t" r="r" b="b"/>
                <a:pathLst>
                  <a:path w="94" h="86">
                    <a:moveTo>
                      <a:pt x="47" y="0"/>
                    </a:moveTo>
                    <a:lnTo>
                      <a:pt x="94" y="86"/>
                    </a:lnTo>
                    <a:lnTo>
                      <a:pt x="47" y="0"/>
                    </a:lnTo>
                    <a:lnTo>
                      <a:pt x="0" y="86"/>
                    </a:lnTo>
                    <a:lnTo>
                      <a:pt x="94" y="86"/>
                    </a:lnTo>
                    <a:lnTo>
                      <a:pt x="47" y="0"/>
                    </a:ln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3870360" y="5267160"/>
              <a:ext cx="108000" cy="890280"/>
              <a:chOff x="3870360" y="5267160"/>
              <a:chExt cx="108000" cy="890280"/>
            </a:xfrm>
          </p:grpSpPr>
          <p:sp>
            <p:nvSpPr>
              <p:cNvPr id="115" name=""/>
              <p:cNvSpPr/>
              <p:nvPr/>
            </p:nvSpPr>
            <p:spPr>
              <a:xfrm>
                <a:off x="3929040" y="5477040"/>
                <a:ext cx="1440" cy="680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870360" y="5267160"/>
                <a:ext cx="108000" cy="197640"/>
              </a:xfrm>
              <a:custGeom>
                <a:avLst/>
                <a:gdLst/>
                <a:ahLst/>
                <a:rect l="l" t="t" r="r" b="b"/>
                <a:pathLst>
                  <a:path w="94" h="86">
                    <a:moveTo>
                      <a:pt x="47" y="0"/>
                    </a:moveTo>
                    <a:lnTo>
                      <a:pt x="94" y="86"/>
                    </a:lnTo>
                    <a:lnTo>
                      <a:pt x="47" y="0"/>
                    </a:lnTo>
                    <a:lnTo>
                      <a:pt x="0" y="86"/>
                    </a:lnTo>
                    <a:lnTo>
                      <a:pt x="94" y="86"/>
                    </a:lnTo>
                    <a:lnTo>
                      <a:pt x="47" y="0"/>
                    </a:ln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108400" y="5278320"/>
              <a:ext cx="96840" cy="901440"/>
              <a:chOff x="5108400" y="5278320"/>
              <a:chExt cx="96840" cy="901440"/>
            </a:xfrm>
          </p:grpSpPr>
          <p:sp>
            <p:nvSpPr>
              <p:cNvPr id="118" name=""/>
              <p:cNvSpPr/>
              <p:nvPr/>
            </p:nvSpPr>
            <p:spPr>
              <a:xfrm>
                <a:off x="5160960" y="5491080"/>
                <a:ext cx="1080" cy="688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108400" y="5278320"/>
                <a:ext cx="96840" cy="199800"/>
              </a:xfrm>
              <a:custGeom>
                <a:avLst/>
                <a:gdLst/>
                <a:ahLst/>
                <a:rect l="l" t="t" r="r" b="b"/>
                <a:pathLst>
                  <a:path w="94" h="86">
                    <a:moveTo>
                      <a:pt x="47" y="0"/>
                    </a:moveTo>
                    <a:lnTo>
                      <a:pt x="94" y="86"/>
                    </a:lnTo>
                    <a:lnTo>
                      <a:pt x="47" y="0"/>
                    </a:lnTo>
                    <a:lnTo>
                      <a:pt x="0" y="86"/>
                    </a:lnTo>
                    <a:lnTo>
                      <a:pt x="94" y="86"/>
                    </a:lnTo>
                    <a:lnTo>
                      <a:pt x="47" y="0"/>
                    </a:ln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769000" y="5278320"/>
              <a:ext cx="108000" cy="888840"/>
              <a:chOff x="5769000" y="5278320"/>
              <a:chExt cx="108000" cy="888840"/>
            </a:xfrm>
          </p:grpSpPr>
          <p:sp>
            <p:nvSpPr>
              <p:cNvPr id="121" name=""/>
              <p:cNvSpPr/>
              <p:nvPr/>
            </p:nvSpPr>
            <p:spPr>
              <a:xfrm>
                <a:off x="5827680" y="5487840"/>
                <a:ext cx="1440" cy="6793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69000" y="5278320"/>
                <a:ext cx="108000" cy="197280"/>
              </a:xfrm>
              <a:custGeom>
                <a:avLst/>
                <a:gdLst/>
                <a:ahLst/>
                <a:rect l="l" t="t" r="r" b="b"/>
                <a:pathLst>
                  <a:path w="94" h="86">
                    <a:moveTo>
                      <a:pt x="47" y="0"/>
                    </a:moveTo>
                    <a:lnTo>
                      <a:pt x="94" y="86"/>
                    </a:lnTo>
                    <a:lnTo>
                      <a:pt x="47" y="0"/>
                    </a:lnTo>
                    <a:lnTo>
                      <a:pt x="0" y="86"/>
                    </a:lnTo>
                    <a:lnTo>
                      <a:pt x="94" y="86"/>
                    </a:lnTo>
                    <a:lnTo>
                      <a:pt x="47" y="0"/>
                    </a:ln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4467240" y="4803840"/>
              <a:ext cx="111240" cy="1388520"/>
              <a:chOff x="4467240" y="4803840"/>
              <a:chExt cx="111240" cy="13885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67240" y="4803840"/>
                <a:ext cx="111240" cy="221400"/>
              </a:xfrm>
              <a:custGeom>
                <a:avLst/>
                <a:gdLst/>
                <a:ahLst/>
                <a:rect l="l" t="t" r="r" b="b"/>
                <a:pathLst>
                  <a:path w="94" h="86">
                    <a:moveTo>
                      <a:pt x="47" y="0"/>
                    </a:moveTo>
                    <a:lnTo>
                      <a:pt x="94" y="86"/>
                    </a:lnTo>
                    <a:lnTo>
                      <a:pt x="47" y="0"/>
                    </a:lnTo>
                    <a:lnTo>
                      <a:pt x="0" y="86"/>
                    </a:lnTo>
                    <a:lnTo>
                      <a:pt x="94" y="86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525560" y="4955400"/>
                <a:ext cx="0" cy="12369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6389640" y="4780080"/>
              <a:ext cx="120600" cy="1379160"/>
              <a:chOff x="6389640" y="4780080"/>
              <a:chExt cx="120600" cy="1379160"/>
            </a:xfrm>
          </p:grpSpPr>
          <p:sp>
            <p:nvSpPr>
              <p:cNvPr id="127" name=""/>
              <p:cNvSpPr/>
              <p:nvPr/>
            </p:nvSpPr>
            <p:spPr>
              <a:xfrm>
                <a:off x="6389640" y="4780080"/>
                <a:ext cx="120600" cy="219960"/>
              </a:xfrm>
              <a:custGeom>
                <a:avLst/>
                <a:gdLst/>
                <a:ahLst/>
                <a:rect l="l" t="t" r="r" b="b"/>
                <a:pathLst>
                  <a:path w="94" h="86">
                    <a:moveTo>
                      <a:pt x="47" y="0"/>
                    </a:moveTo>
                    <a:lnTo>
                      <a:pt x="94" y="86"/>
                    </a:lnTo>
                    <a:lnTo>
                      <a:pt x="47" y="0"/>
                    </a:lnTo>
                    <a:lnTo>
                      <a:pt x="0" y="86"/>
                    </a:lnTo>
                    <a:lnTo>
                      <a:pt x="94" y="86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53000" y="4930560"/>
                <a:ext cx="0" cy="1228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603520" y="5545080"/>
              <a:ext cx="628920" cy="514440"/>
              <a:chOff x="2603520" y="5545080"/>
              <a:chExt cx="628920" cy="514440"/>
            </a:xfrm>
          </p:grpSpPr>
          <p:sp>
            <p:nvSpPr>
              <p:cNvPr id="130" name=""/>
              <p:cNvSpPr/>
              <p:nvPr/>
            </p:nvSpPr>
            <p:spPr>
              <a:xfrm>
                <a:off x="2932920" y="561348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2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021840" y="574524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3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13640" y="587376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4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05800" y="601344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5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2603520" y="5545080"/>
                <a:ext cx="625320" cy="488880"/>
                <a:chOff x="2603520" y="5545080"/>
                <a:chExt cx="625320" cy="48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2690280" y="5683320"/>
                  <a:ext cx="31104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869920" y="5950080"/>
                  <a:ext cx="31068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603520" y="5551560"/>
                  <a:ext cx="31212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782440" y="5815080"/>
                  <a:ext cx="31248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9" name=""/>
                <p:cNvGrpSpPr/>
                <p:nvPr/>
              </p:nvGrpSpPr>
              <p:grpSpPr>
                <a:xfrm>
                  <a:off x="2622600" y="5545080"/>
                  <a:ext cx="606240" cy="488160"/>
                  <a:chOff x="2622600" y="5545080"/>
                  <a:chExt cx="606240" cy="48816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>
                    <a:off x="2652840" y="5545080"/>
                    <a:ext cx="2142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Fill out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2622600" y="5578560"/>
                    <a:ext cx="267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Iteration Plan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2727720" y="5676840"/>
                    <a:ext cx="226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arn some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2710440" y="5710320"/>
                    <a:ext cx="2750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quality points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2855160" y="5808600"/>
                    <a:ext cx="168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Take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2838240" y="5840280"/>
                    <a:ext cx="20952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vent card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2867040" y="5938920"/>
                    <a:ext cx="3618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Conduct Iteratio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2906640" y="5972040"/>
                    <a:ext cx="244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Assessment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8" name=""/>
                <p:cNvSpPr/>
                <p:nvPr/>
              </p:nvSpPr>
              <p:spPr>
                <a:xfrm>
                  <a:off x="2752200" y="564048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847600" y="5770440"/>
                  <a:ext cx="0" cy="414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933280" y="590400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1" name=""/>
            <p:cNvGrpSpPr/>
            <p:nvPr/>
          </p:nvGrpSpPr>
          <p:grpSpPr>
            <a:xfrm>
              <a:off x="3274920" y="5545080"/>
              <a:ext cx="629640" cy="514440"/>
              <a:chOff x="3274920" y="5545080"/>
              <a:chExt cx="629640" cy="514440"/>
            </a:xfrm>
          </p:grpSpPr>
          <p:sp>
            <p:nvSpPr>
              <p:cNvPr id="152" name=""/>
              <p:cNvSpPr/>
              <p:nvPr/>
            </p:nvSpPr>
            <p:spPr>
              <a:xfrm>
                <a:off x="3604680" y="561348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2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693600" y="574524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3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785760" y="587376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4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877920" y="601344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5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3274920" y="5545080"/>
                <a:ext cx="626400" cy="488880"/>
                <a:chOff x="3274920" y="5545080"/>
                <a:chExt cx="626400" cy="48888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362040" y="5683320"/>
                  <a:ext cx="31140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541680" y="5950080"/>
                  <a:ext cx="31104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274920" y="5551560"/>
                  <a:ext cx="31248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454200" y="5815080"/>
                  <a:ext cx="31284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1" name=""/>
                <p:cNvGrpSpPr/>
                <p:nvPr/>
              </p:nvGrpSpPr>
              <p:grpSpPr>
                <a:xfrm>
                  <a:off x="3294360" y="5545080"/>
                  <a:ext cx="606960" cy="488160"/>
                  <a:chOff x="3294360" y="5545080"/>
                  <a:chExt cx="606960" cy="48816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324960" y="5545080"/>
                    <a:ext cx="2142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Fill out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294360" y="5578560"/>
                    <a:ext cx="267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Iteration Plan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399840" y="5676840"/>
                    <a:ext cx="226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arn some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3382560" y="5710320"/>
                    <a:ext cx="2750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quality points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3527280" y="5808600"/>
                    <a:ext cx="168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Take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3510720" y="5840280"/>
                    <a:ext cx="20952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vent card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3539520" y="5938920"/>
                    <a:ext cx="3618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Conduct Iteratio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3578760" y="5972040"/>
                    <a:ext cx="244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Assessment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"/>
                <p:cNvSpPr/>
                <p:nvPr/>
              </p:nvSpPr>
              <p:spPr>
                <a:xfrm>
                  <a:off x="3423960" y="564048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519360" y="5770440"/>
                  <a:ext cx="0" cy="414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605040" y="590400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946680" y="5545080"/>
              <a:ext cx="628920" cy="514440"/>
              <a:chOff x="3946680" y="5545080"/>
              <a:chExt cx="628920" cy="514440"/>
            </a:xfrm>
          </p:grpSpPr>
          <p:sp>
            <p:nvSpPr>
              <p:cNvPr id="174" name=""/>
              <p:cNvSpPr/>
              <p:nvPr/>
            </p:nvSpPr>
            <p:spPr>
              <a:xfrm>
                <a:off x="4276080" y="561348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2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365000" y="574524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3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456800" y="587376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4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548960" y="601344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5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3946680" y="5545080"/>
                <a:ext cx="625320" cy="488880"/>
                <a:chOff x="3946680" y="5545080"/>
                <a:chExt cx="625320" cy="4888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4033440" y="5683320"/>
                  <a:ext cx="31104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213080" y="5950080"/>
                  <a:ext cx="31068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946680" y="5551560"/>
                  <a:ext cx="31212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125600" y="5815080"/>
                  <a:ext cx="31248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"/>
                <p:cNvGrpSpPr/>
                <p:nvPr/>
              </p:nvGrpSpPr>
              <p:grpSpPr>
                <a:xfrm>
                  <a:off x="3965760" y="5545080"/>
                  <a:ext cx="606240" cy="488160"/>
                  <a:chOff x="3965760" y="5545080"/>
                  <a:chExt cx="606240" cy="4881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>
                    <a:off x="3996000" y="5545080"/>
                    <a:ext cx="2142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Fill out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3965760" y="5578560"/>
                    <a:ext cx="267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Iteration Plan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4070880" y="5676840"/>
                    <a:ext cx="226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arn some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053600" y="5710320"/>
                    <a:ext cx="2750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quality points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4198320" y="5808600"/>
                    <a:ext cx="168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Take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181400" y="5840280"/>
                    <a:ext cx="20952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vent card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210200" y="5938920"/>
                    <a:ext cx="3618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Conduct Iteratio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4249800" y="5972040"/>
                    <a:ext cx="244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Assessment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"/>
                <p:cNvSpPr/>
                <p:nvPr/>
              </p:nvSpPr>
              <p:spPr>
                <a:xfrm>
                  <a:off x="4095360" y="564048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190760" y="5770440"/>
                  <a:ext cx="0" cy="414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276440" y="590400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4552920" y="5545080"/>
              <a:ext cx="628920" cy="514440"/>
              <a:chOff x="4552920" y="5545080"/>
              <a:chExt cx="628920" cy="514440"/>
            </a:xfrm>
          </p:grpSpPr>
          <p:sp>
            <p:nvSpPr>
              <p:cNvPr id="196" name=""/>
              <p:cNvSpPr/>
              <p:nvPr/>
            </p:nvSpPr>
            <p:spPr>
              <a:xfrm>
                <a:off x="4882320" y="561348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2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71240" y="574524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3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063040" y="587376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4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155200" y="601344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5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4552920" y="5545080"/>
                <a:ext cx="625320" cy="488880"/>
                <a:chOff x="4552920" y="5545080"/>
                <a:chExt cx="625320" cy="4888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4639680" y="5683320"/>
                  <a:ext cx="31104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819320" y="5950080"/>
                  <a:ext cx="31068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552920" y="5551560"/>
                  <a:ext cx="31212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731840" y="5815080"/>
                  <a:ext cx="31248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5" name=""/>
                <p:cNvGrpSpPr/>
                <p:nvPr/>
              </p:nvGrpSpPr>
              <p:grpSpPr>
                <a:xfrm>
                  <a:off x="4572000" y="5545080"/>
                  <a:ext cx="606240" cy="488160"/>
                  <a:chOff x="4572000" y="5545080"/>
                  <a:chExt cx="606240" cy="48816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4602240" y="5545080"/>
                    <a:ext cx="2142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Fill out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4572000" y="5578560"/>
                    <a:ext cx="267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Iteration Plan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4677120" y="5676840"/>
                    <a:ext cx="226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arn some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4659840" y="5710320"/>
                    <a:ext cx="2750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quality points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4804560" y="5808600"/>
                    <a:ext cx="168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Take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4787640" y="5840280"/>
                    <a:ext cx="20952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vent card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4816440" y="5938920"/>
                    <a:ext cx="3618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Conduct Iteratio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4856040" y="5972040"/>
                    <a:ext cx="244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Assessment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4701600" y="564048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797000" y="5770440"/>
                  <a:ext cx="0" cy="414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882680" y="590400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5213520" y="5545080"/>
              <a:ext cx="628920" cy="514440"/>
              <a:chOff x="5213520" y="5545080"/>
              <a:chExt cx="628920" cy="514440"/>
            </a:xfrm>
          </p:grpSpPr>
          <p:sp>
            <p:nvSpPr>
              <p:cNvPr id="218" name=""/>
              <p:cNvSpPr/>
              <p:nvPr/>
            </p:nvSpPr>
            <p:spPr>
              <a:xfrm>
                <a:off x="5542920" y="561348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2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1840" y="574524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3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723640" y="587376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4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815800" y="601344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5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5213520" y="5545080"/>
                <a:ext cx="625320" cy="488880"/>
                <a:chOff x="5213520" y="5545080"/>
                <a:chExt cx="625320" cy="4888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5300280" y="5683320"/>
                  <a:ext cx="31104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479920" y="5950080"/>
                  <a:ext cx="31068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213520" y="5551560"/>
                  <a:ext cx="31212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392440" y="5815080"/>
                  <a:ext cx="31248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7" name=""/>
                <p:cNvGrpSpPr/>
                <p:nvPr/>
              </p:nvGrpSpPr>
              <p:grpSpPr>
                <a:xfrm>
                  <a:off x="5232600" y="5545080"/>
                  <a:ext cx="606240" cy="488160"/>
                  <a:chOff x="5232600" y="5545080"/>
                  <a:chExt cx="606240" cy="48816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5262840" y="5545080"/>
                    <a:ext cx="2142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Fill out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5232600" y="5578560"/>
                    <a:ext cx="267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Iteration Plan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5337720" y="5676840"/>
                    <a:ext cx="226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arn some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320440" y="5710320"/>
                    <a:ext cx="2750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quality points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5465160" y="5808600"/>
                    <a:ext cx="168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Take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448240" y="5840280"/>
                    <a:ext cx="20952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vent card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5477040" y="5938920"/>
                    <a:ext cx="3618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Conduct Iteratio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5516640" y="5972040"/>
                    <a:ext cx="244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Assessment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5362200" y="564048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457600" y="5770440"/>
                  <a:ext cx="0" cy="414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543280" y="590400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"/>
            <p:cNvGrpSpPr/>
            <p:nvPr/>
          </p:nvGrpSpPr>
          <p:grpSpPr>
            <a:xfrm>
              <a:off x="5886360" y="5545080"/>
              <a:ext cx="629640" cy="514440"/>
              <a:chOff x="5886360" y="5545080"/>
              <a:chExt cx="629640" cy="514440"/>
            </a:xfrm>
          </p:grpSpPr>
          <p:sp>
            <p:nvSpPr>
              <p:cNvPr id="240" name=""/>
              <p:cNvSpPr/>
              <p:nvPr/>
            </p:nvSpPr>
            <p:spPr>
              <a:xfrm>
                <a:off x="6216120" y="561348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2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305040" y="574524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3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397200" y="587376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4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489360" y="601344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5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5886360" y="5545080"/>
                <a:ext cx="626400" cy="488880"/>
                <a:chOff x="5886360" y="5545080"/>
                <a:chExt cx="626400" cy="48888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5973480" y="5683320"/>
                  <a:ext cx="31140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153120" y="5950080"/>
                  <a:ext cx="31104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886360" y="5551560"/>
                  <a:ext cx="31248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065640" y="5815080"/>
                  <a:ext cx="31284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9" name=""/>
                <p:cNvGrpSpPr/>
                <p:nvPr/>
              </p:nvGrpSpPr>
              <p:grpSpPr>
                <a:xfrm>
                  <a:off x="5905800" y="5545080"/>
                  <a:ext cx="606960" cy="488160"/>
                  <a:chOff x="5905800" y="5545080"/>
                  <a:chExt cx="606960" cy="48816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>
                    <a:off x="5936400" y="5545080"/>
                    <a:ext cx="2142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Fill out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5905800" y="5578560"/>
                    <a:ext cx="267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Iteration Plan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6011280" y="5676840"/>
                    <a:ext cx="226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arn some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5994000" y="5710320"/>
                    <a:ext cx="2750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quality points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6138720" y="5808600"/>
                    <a:ext cx="168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Take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6122160" y="5840280"/>
                    <a:ext cx="20952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vent card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6150960" y="5938920"/>
                    <a:ext cx="3618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Conduct Iteratio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6190200" y="5972040"/>
                    <a:ext cx="244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Assessment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6035400" y="564048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130800" y="5770440"/>
                  <a:ext cx="0" cy="414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216480" y="590400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1" name=""/>
          <p:cNvSpPr/>
          <p:nvPr/>
        </p:nvSpPr>
        <p:spPr>
          <a:xfrm>
            <a:off x="361800" y="609480"/>
            <a:ext cx="849024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186000" y="1832040"/>
            <a:ext cx="5418720" cy="970920"/>
            <a:chOff x="3186000" y="1832040"/>
            <a:chExt cx="5418720" cy="970920"/>
          </a:xfrm>
        </p:grpSpPr>
        <p:sp>
          <p:nvSpPr>
            <p:cNvPr id="263" name=""/>
            <p:cNvSpPr/>
            <p:nvPr/>
          </p:nvSpPr>
          <p:spPr>
            <a:xfrm>
              <a:off x="3884040" y="1832040"/>
              <a:ext cx="472068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ffff"/>
                  </a:solidFill>
                  <a:latin typeface="Arial Narrow"/>
                </a:rPr>
                <a:t>=answer the blue quality-questions, use RUP e-Coach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ffff"/>
                  </a:solidFill>
                  <a:latin typeface="Arial Narrow"/>
                </a:rPr>
                <a:t>to find correct answers, correct answer = 100 p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ffff"/>
                  </a:solidFill>
                  <a:latin typeface="Arial Narrow"/>
                </a:rPr>
                <a:t>    </a:t>
              </a:r>
              <a:r>
                <a:rPr b="1" lang="en-US" sz="1500" spc="-1" strike="noStrike">
                  <a:solidFill>
                    <a:srgbClr val="00ffff"/>
                  </a:solidFill>
                  <a:latin typeface="Arial Narrow"/>
                </a:rPr>
                <a:t>max 5 questions per Elaboration-iteration (total is 10!)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ffff"/>
                  </a:solidFill>
                  <a:latin typeface="Arial Narrow"/>
                </a:rPr>
                <a:t>    </a:t>
              </a:r>
              <a:r>
                <a:rPr b="1" lang="en-US" sz="1500" spc="-1" strike="noStrike">
                  <a:solidFill>
                    <a:srgbClr val="00ffff"/>
                  </a:solidFill>
                  <a:latin typeface="Arial Narrow"/>
                </a:rPr>
                <a:t>max 3 questions per Construction-iteration (total is 10!)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3186000" y="1979640"/>
              <a:ext cx="736560" cy="3700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3546000" y="2990880"/>
            <a:ext cx="4927680" cy="664200"/>
            <a:chOff x="3546000" y="2990880"/>
            <a:chExt cx="4927680" cy="664200"/>
          </a:xfrm>
        </p:grpSpPr>
        <p:sp>
          <p:nvSpPr>
            <p:cNvPr id="266" name=""/>
            <p:cNvSpPr/>
            <p:nvPr/>
          </p:nvSpPr>
          <p:spPr>
            <a:xfrm>
              <a:off x="4239000" y="2990880"/>
              <a:ext cx="4234680" cy="66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ff0000"/>
                  </a:solidFill>
                  <a:latin typeface="Arial Narrow"/>
                </a:rPr>
                <a:t>=ask instructor for a card, anything can happen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ff0000"/>
                  </a:solidFill>
                  <a:latin typeface="Arial Narrow"/>
                </a:rPr>
                <a:t>which affects your project!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flipV="1">
              <a:off x="3546000" y="3063960"/>
              <a:ext cx="682920" cy="169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895560" y="3884760"/>
            <a:ext cx="4964040" cy="560520"/>
            <a:chOff x="3895560" y="3884760"/>
            <a:chExt cx="4964040" cy="560520"/>
          </a:xfrm>
        </p:grpSpPr>
        <p:sp>
          <p:nvSpPr>
            <p:cNvPr id="269" name=""/>
            <p:cNvSpPr/>
            <p:nvPr/>
          </p:nvSpPr>
          <p:spPr>
            <a:xfrm>
              <a:off x="4523040" y="3884760"/>
              <a:ext cx="433656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ffff00"/>
                  </a:solidFill>
                  <a:latin typeface="Arial Narrow"/>
                </a:rPr>
                <a:t>=perform together with instructor, who assesses </a:t>
              </a:r>
              <a:br>
                <a:rPr sz="1700"/>
              </a:br>
              <a:r>
                <a:rPr b="1" i="1" lang="en-US" sz="1700" spc="-1" strike="noStrike">
                  <a:solidFill>
                    <a:srgbClr val="ffff00"/>
                  </a:solidFill>
                  <a:latin typeface="Arial Narrow"/>
                </a:rPr>
                <a:t>your staffing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 flipV="1">
              <a:off x="3895560" y="3891240"/>
              <a:ext cx="627120" cy="141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847960" y="1122480"/>
            <a:ext cx="6244920" cy="560520"/>
            <a:chOff x="2847960" y="1122480"/>
            <a:chExt cx="6244920" cy="560520"/>
          </a:xfrm>
        </p:grpSpPr>
        <p:sp>
          <p:nvSpPr>
            <p:cNvPr id="272" name=""/>
            <p:cNvSpPr/>
            <p:nvPr/>
          </p:nvSpPr>
          <p:spPr>
            <a:xfrm>
              <a:off x="3371040" y="1122480"/>
              <a:ext cx="57218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39ce32"/>
                  </a:solidFill>
                  <a:latin typeface="Arial Narrow"/>
                </a:rPr>
                <a:t>=staff the project, see which risks you want to address and pick </a:t>
              </a:r>
              <a:br>
                <a:rPr sz="1700"/>
              </a:br>
              <a:r>
                <a:rPr b="1" i="1" lang="en-US" sz="1700" spc="-1" strike="noStrike">
                  <a:solidFill>
                    <a:srgbClr val="39ce32"/>
                  </a:solidFill>
                  <a:latin typeface="Arial Narrow"/>
                </a:rPr>
                <a:t>use-cases on basis of that, calculate burn rate, schedule and cost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847960" y="1295640"/>
              <a:ext cx="566640" cy="2696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945720" y="439560"/>
            <a:ext cx="5635080" cy="5673960"/>
            <a:chOff x="945720" y="439560"/>
            <a:chExt cx="5635080" cy="5673960"/>
          </a:xfrm>
        </p:grpSpPr>
        <p:sp>
          <p:nvSpPr>
            <p:cNvPr id="275" name=""/>
            <p:cNvSpPr/>
            <p:nvPr/>
          </p:nvSpPr>
          <p:spPr>
            <a:xfrm>
              <a:off x="2411280" y="3721320"/>
              <a:ext cx="1816200" cy="492120"/>
            </a:xfrm>
            <a:custGeom>
              <a:avLst/>
              <a:gdLst/>
              <a:ahLst/>
              <a:rect l="l" t="t" r="r" b="b"/>
              <a:pathLst>
                <a:path w="100" h="35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lnTo>
                    <a:pt x="0" y="29"/>
                  </a:lnTo>
                  <a:cubicBezTo>
                    <a:pt x="0" y="32"/>
                    <a:pt x="3" y="35"/>
                    <a:pt x="6" y="35"/>
                  </a:cubicBezTo>
                  <a:lnTo>
                    <a:pt x="94" y="35"/>
                  </a:lnTo>
                  <a:cubicBezTo>
                    <a:pt x="97" y="35"/>
                    <a:pt x="100" y="32"/>
                    <a:pt x="100" y="29"/>
                  </a:cubicBezTo>
                  <a:lnTo>
                    <a:pt x="100" y="6"/>
                  </a:lnTo>
                  <a:cubicBezTo>
                    <a:pt x="100" y="3"/>
                    <a:pt x="97" y="0"/>
                    <a:pt x="94" y="0"/>
                  </a:cubicBezTo>
                  <a:lnTo>
                    <a:pt x="6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945720" y="439560"/>
              <a:ext cx="5635080" cy="5673960"/>
              <a:chOff x="945720" y="439560"/>
              <a:chExt cx="5635080" cy="5673960"/>
            </a:xfrm>
          </p:grpSpPr>
          <p:grpSp>
            <p:nvGrpSpPr>
              <p:cNvPr id="277" name=""/>
              <p:cNvGrpSpPr/>
              <p:nvPr/>
            </p:nvGrpSpPr>
            <p:grpSpPr>
              <a:xfrm>
                <a:off x="945720" y="439560"/>
                <a:ext cx="5635080" cy="5673960"/>
                <a:chOff x="945720" y="439560"/>
                <a:chExt cx="5635080" cy="5673960"/>
              </a:xfrm>
            </p:grpSpPr>
            <p:sp>
              <p:nvSpPr>
                <p:cNvPr id="278" name=""/>
                <p:cNvSpPr/>
                <p:nvPr/>
              </p:nvSpPr>
              <p:spPr>
                <a:xfrm flipH="1" flipV="1">
                  <a:off x="945000" y="439200"/>
                  <a:ext cx="5635080" cy="5673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536" y="667"/>
                      </a:moveTo>
                      <a:arcTo wR="10800" hR="10800" stAng="-4185833" swAng="65413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536" y="667"/>
                      </a:moveTo>
                      <a:arcTo wR="10800" hR="10800" stAng="-4185833" swAng="6541310"/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 flipV="1">
                  <a:off x="2180520" y="4106880"/>
                  <a:ext cx="3567960" cy="169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937" y="3698"/>
                      </a:moveTo>
                      <a:arcTo wR="10800" hR="10800" stAng="-2466790" swAng="586340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937" y="3698"/>
                      </a:moveTo>
                      <a:arcTo wR="10800" hR="10800" stAng="-2466790" swAng="5863408"/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1531800" y="1401840"/>
                <a:ext cx="2512080" cy="2921760"/>
                <a:chOff x="1531800" y="1401840"/>
                <a:chExt cx="2512080" cy="292176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1874880" y="2175120"/>
                  <a:ext cx="1235160" cy="49212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585880" y="3749760"/>
                  <a:ext cx="1235160" cy="49212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531800" y="1401840"/>
                  <a:ext cx="1235160" cy="49212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776240" y="1457280"/>
                  <a:ext cx="736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Fill out an 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648800" y="1652760"/>
                  <a:ext cx="92880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Iteration Plan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828800" y="2173320"/>
                  <a:ext cx="1544760" cy="49536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063160" y="2229120"/>
                  <a:ext cx="788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Earn some 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990440" y="2428920"/>
                  <a:ext cx="954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quality points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243160" y="2949840"/>
                  <a:ext cx="1235160" cy="49032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559960" y="3005280"/>
                  <a:ext cx="5860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Take an 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489040" y="3200400"/>
                  <a:ext cx="73080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event car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614320" y="3776760"/>
                  <a:ext cx="12549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Conduct Iteration 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759040" y="3975120"/>
                  <a:ext cx="85860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Assessmen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112840" y="1893960"/>
                  <a:ext cx="0" cy="2793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"/>
                <p:cNvGrpSpPr/>
                <p:nvPr/>
              </p:nvGrpSpPr>
              <p:grpSpPr>
                <a:xfrm>
                  <a:off x="2840040" y="1755720"/>
                  <a:ext cx="1203840" cy="2567880"/>
                  <a:chOff x="2840040" y="1755720"/>
                  <a:chExt cx="1203840" cy="256788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2840040" y="1755720"/>
                    <a:ext cx="12276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 Narrow"/>
                      </a:rPr>
                      <a:t>2.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3182760" y="2530440"/>
                    <a:ext cx="12276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 Narrow"/>
                      </a:rPr>
                      <a:t>3.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3551040" y="3289320"/>
                    <a:ext cx="12276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 Narrow"/>
                      </a:rPr>
                      <a:t>4.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3921120" y="4110120"/>
                    <a:ext cx="12276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 Narrow"/>
                      </a:rPr>
                      <a:t>5.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"/>
                <p:cNvSpPr/>
                <p:nvPr/>
              </p:nvSpPr>
              <p:spPr>
                <a:xfrm>
                  <a:off x="2489040" y="2667240"/>
                  <a:ext cx="0" cy="2793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844720" y="3454560"/>
                  <a:ext cx="0" cy="2793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How to “run” an Iteration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457200" y="4454640"/>
            <a:ext cx="8013600" cy="1412280"/>
            <a:chOff x="457200" y="4454640"/>
            <a:chExt cx="8013600" cy="1412280"/>
          </a:xfrm>
        </p:grpSpPr>
        <p:sp>
          <p:nvSpPr>
            <p:cNvPr id="304" name=""/>
            <p:cNvSpPr/>
            <p:nvPr/>
          </p:nvSpPr>
          <p:spPr>
            <a:xfrm>
              <a:off x="520560" y="4467240"/>
              <a:ext cx="7790040" cy="49536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96840" y="4567320"/>
              <a:ext cx="1084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Incep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25280" y="4567320"/>
              <a:ext cx="1299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Elabora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54800" y="4567320"/>
              <a:ext cx="1443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Constru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788160" y="4567320"/>
              <a:ext cx="1163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Transi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07960" y="5064120"/>
              <a:ext cx="796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7200" y="5052960"/>
              <a:ext cx="616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23800" y="4462560"/>
              <a:ext cx="1976400" cy="5014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51480" y="4464000"/>
              <a:ext cx="1951200" cy="50004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2459160" y="4457880"/>
              <a:ext cx="120600" cy="1379160"/>
              <a:chOff x="2459160" y="4457880"/>
              <a:chExt cx="120600" cy="1379160"/>
            </a:xfrm>
          </p:grpSpPr>
          <p:sp>
            <p:nvSpPr>
              <p:cNvPr id="314" name=""/>
              <p:cNvSpPr/>
              <p:nvPr/>
            </p:nvSpPr>
            <p:spPr>
              <a:xfrm>
                <a:off x="2459160" y="4457880"/>
                <a:ext cx="120600" cy="219960"/>
              </a:xfrm>
              <a:custGeom>
                <a:avLst/>
                <a:gdLst/>
                <a:ahLst/>
                <a:rect l="l" t="t" r="r" b="b"/>
                <a:pathLst>
                  <a:path w="94" h="86">
                    <a:moveTo>
                      <a:pt x="47" y="0"/>
                    </a:moveTo>
                    <a:lnTo>
                      <a:pt x="94" y="86"/>
                    </a:lnTo>
                    <a:lnTo>
                      <a:pt x="47" y="0"/>
                    </a:lnTo>
                    <a:lnTo>
                      <a:pt x="0" y="86"/>
                    </a:lnTo>
                    <a:lnTo>
                      <a:pt x="94" y="86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522520" y="4608360"/>
                <a:ext cx="0" cy="1228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3094200" y="4943520"/>
              <a:ext cx="107640" cy="890280"/>
              <a:chOff x="3094200" y="4943520"/>
              <a:chExt cx="107640" cy="890280"/>
            </a:xfrm>
          </p:grpSpPr>
          <p:sp>
            <p:nvSpPr>
              <p:cNvPr id="317" name=""/>
              <p:cNvSpPr/>
              <p:nvPr/>
            </p:nvSpPr>
            <p:spPr>
              <a:xfrm>
                <a:off x="3152520" y="5153400"/>
                <a:ext cx="1080" cy="680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94200" y="4943520"/>
                <a:ext cx="107640" cy="197640"/>
              </a:xfrm>
              <a:custGeom>
                <a:avLst/>
                <a:gdLst/>
                <a:ahLst/>
                <a:rect l="l" t="t" r="r" b="b"/>
                <a:pathLst>
                  <a:path w="94" h="86">
                    <a:moveTo>
                      <a:pt x="47" y="0"/>
                    </a:moveTo>
                    <a:lnTo>
                      <a:pt x="94" y="86"/>
                    </a:lnTo>
                    <a:lnTo>
                      <a:pt x="47" y="0"/>
                    </a:lnTo>
                    <a:lnTo>
                      <a:pt x="0" y="86"/>
                    </a:lnTo>
                    <a:lnTo>
                      <a:pt x="94" y="86"/>
                    </a:lnTo>
                    <a:lnTo>
                      <a:pt x="47" y="0"/>
                    </a:ln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3759120" y="4941720"/>
              <a:ext cx="108000" cy="890280"/>
              <a:chOff x="3759120" y="4941720"/>
              <a:chExt cx="108000" cy="890280"/>
            </a:xfrm>
          </p:grpSpPr>
          <p:sp>
            <p:nvSpPr>
              <p:cNvPr id="320" name=""/>
              <p:cNvSpPr/>
              <p:nvPr/>
            </p:nvSpPr>
            <p:spPr>
              <a:xfrm>
                <a:off x="3817800" y="5151600"/>
                <a:ext cx="1440" cy="680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759120" y="4941720"/>
                <a:ext cx="108000" cy="197640"/>
              </a:xfrm>
              <a:custGeom>
                <a:avLst/>
                <a:gdLst/>
                <a:ahLst/>
                <a:rect l="l" t="t" r="r" b="b"/>
                <a:pathLst>
                  <a:path w="94" h="86">
                    <a:moveTo>
                      <a:pt x="47" y="0"/>
                    </a:moveTo>
                    <a:lnTo>
                      <a:pt x="94" y="86"/>
                    </a:lnTo>
                    <a:lnTo>
                      <a:pt x="47" y="0"/>
                    </a:lnTo>
                    <a:lnTo>
                      <a:pt x="0" y="86"/>
                    </a:lnTo>
                    <a:lnTo>
                      <a:pt x="94" y="86"/>
                    </a:lnTo>
                    <a:lnTo>
                      <a:pt x="47" y="0"/>
                    </a:ln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4997520" y="4952880"/>
              <a:ext cx="96840" cy="901440"/>
              <a:chOff x="4997520" y="4952880"/>
              <a:chExt cx="96840" cy="901440"/>
            </a:xfrm>
          </p:grpSpPr>
          <p:sp>
            <p:nvSpPr>
              <p:cNvPr id="323" name=""/>
              <p:cNvSpPr/>
              <p:nvPr/>
            </p:nvSpPr>
            <p:spPr>
              <a:xfrm>
                <a:off x="5050080" y="5165640"/>
                <a:ext cx="1080" cy="688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97520" y="4952880"/>
                <a:ext cx="96840" cy="199800"/>
              </a:xfrm>
              <a:custGeom>
                <a:avLst/>
                <a:gdLst/>
                <a:ahLst/>
                <a:rect l="l" t="t" r="r" b="b"/>
                <a:pathLst>
                  <a:path w="94" h="86">
                    <a:moveTo>
                      <a:pt x="47" y="0"/>
                    </a:moveTo>
                    <a:lnTo>
                      <a:pt x="94" y="86"/>
                    </a:lnTo>
                    <a:lnTo>
                      <a:pt x="47" y="0"/>
                    </a:lnTo>
                    <a:lnTo>
                      <a:pt x="0" y="86"/>
                    </a:lnTo>
                    <a:lnTo>
                      <a:pt x="94" y="86"/>
                    </a:lnTo>
                    <a:lnTo>
                      <a:pt x="47" y="0"/>
                    </a:ln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5657760" y="4952880"/>
              <a:ext cx="108000" cy="888840"/>
              <a:chOff x="5657760" y="4952880"/>
              <a:chExt cx="108000" cy="888840"/>
            </a:xfrm>
          </p:grpSpPr>
          <p:sp>
            <p:nvSpPr>
              <p:cNvPr id="326" name=""/>
              <p:cNvSpPr/>
              <p:nvPr/>
            </p:nvSpPr>
            <p:spPr>
              <a:xfrm>
                <a:off x="5716440" y="5162400"/>
                <a:ext cx="1440" cy="6793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657760" y="4952880"/>
                <a:ext cx="108000" cy="197280"/>
              </a:xfrm>
              <a:custGeom>
                <a:avLst/>
                <a:gdLst/>
                <a:ahLst/>
                <a:rect l="l" t="t" r="r" b="b"/>
                <a:pathLst>
                  <a:path w="94" h="86">
                    <a:moveTo>
                      <a:pt x="47" y="0"/>
                    </a:moveTo>
                    <a:lnTo>
                      <a:pt x="94" y="86"/>
                    </a:lnTo>
                    <a:lnTo>
                      <a:pt x="47" y="0"/>
                    </a:lnTo>
                    <a:lnTo>
                      <a:pt x="0" y="86"/>
                    </a:lnTo>
                    <a:lnTo>
                      <a:pt x="94" y="86"/>
                    </a:lnTo>
                    <a:lnTo>
                      <a:pt x="47" y="0"/>
                    </a:ln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4356000" y="4478400"/>
              <a:ext cx="111240" cy="1388520"/>
              <a:chOff x="4356000" y="4478400"/>
              <a:chExt cx="111240" cy="1388520"/>
            </a:xfrm>
          </p:grpSpPr>
          <p:sp>
            <p:nvSpPr>
              <p:cNvPr id="329" name=""/>
              <p:cNvSpPr/>
              <p:nvPr/>
            </p:nvSpPr>
            <p:spPr>
              <a:xfrm>
                <a:off x="4356000" y="4478400"/>
                <a:ext cx="111240" cy="221400"/>
              </a:xfrm>
              <a:custGeom>
                <a:avLst/>
                <a:gdLst/>
                <a:ahLst/>
                <a:rect l="l" t="t" r="r" b="b"/>
                <a:pathLst>
                  <a:path w="94" h="86">
                    <a:moveTo>
                      <a:pt x="47" y="0"/>
                    </a:moveTo>
                    <a:lnTo>
                      <a:pt x="94" y="86"/>
                    </a:lnTo>
                    <a:lnTo>
                      <a:pt x="47" y="0"/>
                    </a:lnTo>
                    <a:lnTo>
                      <a:pt x="0" y="86"/>
                    </a:lnTo>
                    <a:lnTo>
                      <a:pt x="94" y="86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414320" y="4629960"/>
                <a:ext cx="0" cy="12369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6278400" y="4454640"/>
              <a:ext cx="120600" cy="1379160"/>
              <a:chOff x="6278400" y="4454640"/>
              <a:chExt cx="120600" cy="1379160"/>
            </a:xfrm>
          </p:grpSpPr>
          <p:sp>
            <p:nvSpPr>
              <p:cNvPr id="332" name=""/>
              <p:cNvSpPr/>
              <p:nvPr/>
            </p:nvSpPr>
            <p:spPr>
              <a:xfrm>
                <a:off x="6278400" y="4454640"/>
                <a:ext cx="120600" cy="219960"/>
              </a:xfrm>
              <a:custGeom>
                <a:avLst/>
                <a:gdLst/>
                <a:ahLst/>
                <a:rect l="l" t="t" r="r" b="b"/>
                <a:pathLst>
                  <a:path w="94" h="86">
                    <a:moveTo>
                      <a:pt x="47" y="0"/>
                    </a:moveTo>
                    <a:lnTo>
                      <a:pt x="94" y="86"/>
                    </a:lnTo>
                    <a:lnTo>
                      <a:pt x="47" y="0"/>
                    </a:lnTo>
                    <a:lnTo>
                      <a:pt x="0" y="86"/>
                    </a:lnTo>
                    <a:lnTo>
                      <a:pt x="94" y="86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341760" y="4605120"/>
                <a:ext cx="0" cy="1228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2492280" y="5219640"/>
              <a:ext cx="629640" cy="514440"/>
              <a:chOff x="2492280" y="5219640"/>
              <a:chExt cx="629640" cy="514440"/>
            </a:xfrm>
          </p:grpSpPr>
          <p:sp>
            <p:nvSpPr>
              <p:cNvPr id="335" name=""/>
              <p:cNvSpPr/>
              <p:nvPr/>
            </p:nvSpPr>
            <p:spPr>
              <a:xfrm>
                <a:off x="2822040" y="528804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2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10960" y="541980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3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003120" y="554832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4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095280" y="568800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5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9" name=""/>
              <p:cNvGrpSpPr/>
              <p:nvPr/>
            </p:nvGrpSpPr>
            <p:grpSpPr>
              <a:xfrm>
                <a:off x="2492280" y="5219640"/>
                <a:ext cx="626400" cy="488880"/>
                <a:chOff x="2492280" y="5219640"/>
                <a:chExt cx="626400" cy="4888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2579400" y="5357880"/>
                  <a:ext cx="31140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759040" y="5624640"/>
                  <a:ext cx="31104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492280" y="5226120"/>
                  <a:ext cx="31248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671560" y="5489640"/>
                  <a:ext cx="31284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44" name=""/>
                <p:cNvGrpSpPr/>
                <p:nvPr/>
              </p:nvGrpSpPr>
              <p:grpSpPr>
                <a:xfrm>
                  <a:off x="2511720" y="5219640"/>
                  <a:ext cx="606960" cy="488160"/>
                  <a:chOff x="2511720" y="5219640"/>
                  <a:chExt cx="606960" cy="4881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542320" y="5219640"/>
                    <a:ext cx="2142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Fill out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511720" y="5253120"/>
                    <a:ext cx="267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Iteration Plan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2617200" y="5351400"/>
                    <a:ext cx="226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arn some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2599920" y="5384880"/>
                    <a:ext cx="2750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quality points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2744640" y="5483160"/>
                    <a:ext cx="168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Take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2728080" y="5514840"/>
                    <a:ext cx="20952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vent card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756880" y="5613480"/>
                    <a:ext cx="3618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Conduct Iteratio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2796120" y="5646600"/>
                    <a:ext cx="244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Assessment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>
                  <a:off x="2641320" y="531504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736720" y="5445000"/>
                  <a:ext cx="0" cy="414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822400" y="557856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6" name=""/>
            <p:cNvGrpSpPr/>
            <p:nvPr/>
          </p:nvGrpSpPr>
          <p:grpSpPr>
            <a:xfrm>
              <a:off x="3164040" y="5219640"/>
              <a:ext cx="628920" cy="514440"/>
              <a:chOff x="3164040" y="5219640"/>
              <a:chExt cx="628920" cy="514440"/>
            </a:xfrm>
          </p:grpSpPr>
          <p:sp>
            <p:nvSpPr>
              <p:cNvPr id="357" name=""/>
              <p:cNvSpPr/>
              <p:nvPr/>
            </p:nvSpPr>
            <p:spPr>
              <a:xfrm>
                <a:off x="3493440" y="528804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2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582360" y="541980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3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674160" y="554832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4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766320" y="568800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5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1" name=""/>
              <p:cNvGrpSpPr/>
              <p:nvPr/>
            </p:nvGrpSpPr>
            <p:grpSpPr>
              <a:xfrm>
                <a:off x="3164040" y="5219640"/>
                <a:ext cx="625320" cy="488880"/>
                <a:chOff x="3164040" y="5219640"/>
                <a:chExt cx="625320" cy="48888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3250800" y="5357880"/>
                  <a:ext cx="31104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430440" y="5624640"/>
                  <a:ext cx="31068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164040" y="5226120"/>
                  <a:ext cx="31212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342960" y="5489640"/>
                  <a:ext cx="31248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6" name=""/>
                <p:cNvGrpSpPr/>
                <p:nvPr/>
              </p:nvGrpSpPr>
              <p:grpSpPr>
                <a:xfrm>
                  <a:off x="3183120" y="5219640"/>
                  <a:ext cx="606240" cy="488160"/>
                  <a:chOff x="3183120" y="5219640"/>
                  <a:chExt cx="606240" cy="48816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>
                    <a:off x="3213360" y="5219640"/>
                    <a:ext cx="2142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Fill out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3183120" y="5253120"/>
                    <a:ext cx="267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Iteration Plan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3288240" y="5351400"/>
                    <a:ext cx="226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arn some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3270960" y="5384880"/>
                    <a:ext cx="2750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quality points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3415680" y="5483160"/>
                    <a:ext cx="168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Take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3398760" y="5514840"/>
                    <a:ext cx="20952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vent card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427560" y="5613480"/>
                    <a:ext cx="3618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Conduct Iteratio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3467160" y="5646600"/>
                    <a:ext cx="244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Assessment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5" name=""/>
                <p:cNvSpPr/>
                <p:nvPr/>
              </p:nvSpPr>
              <p:spPr>
                <a:xfrm>
                  <a:off x="3312720" y="531504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408120" y="5445000"/>
                  <a:ext cx="0" cy="414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493800" y="557856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8" name=""/>
            <p:cNvGrpSpPr/>
            <p:nvPr/>
          </p:nvGrpSpPr>
          <p:grpSpPr>
            <a:xfrm>
              <a:off x="3835440" y="5219640"/>
              <a:ext cx="628920" cy="514440"/>
              <a:chOff x="3835440" y="5219640"/>
              <a:chExt cx="628920" cy="514440"/>
            </a:xfrm>
          </p:grpSpPr>
          <p:sp>
            <p:nvSpPr>
              <p:cNvPr id="379" name=""/>
              <p:cNvSpPr/>
              <p:nvPr/>
            </p:nvSpPr>
            <p:spPr>
              <a:xfrm>
                <a:off x="4164840" y="528804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2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253760" y="541980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3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345560" y="554832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4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437720" y="568800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5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3" name=""/>
              <p:cNvGrpSpPr/>
              <p:nvPr/>
            </p:nvGrpSpPr>
            <p:grpSpPr>
              <a:xfrm>
                <a:off x="3835440" y="5219640"/>
                <a:ext cx="625320" cy="488880"/>
                <a:chOff x="3835440" y="5219640"/>
                <a:chExt cx="625320" cy="48888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3922200" y="5357880"/>
                  <a:ext cx="31104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101840" y="5624640"/>
                  <a:ext cx="31068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835440" y="5226120"/>
                  <a:ext cx="31212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4014360" y="5489640"/>
                  <a:ext cx="31248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88" name=""/>
                <p:cNvGrpSpPr/>
                <p:nvPr/>
              </p:nvGrpSpPr>
              <p:grpSpPr>
                <a:xfrm>
                  <a:off x="3854520" y="5219640"/>
                  <a:ext cx="606240" cy="488160"/>
                  <a:chOff x="3854520" y="5219640"/>
                  <a:chExt cx="606240" cy="48816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3884760" y="5219640"/>
                    <a:ext cx="2142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Fill out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3854520" y="5253120"/>
                    <a:ext cx="267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Iteration Plan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3959640" y="5351400"/>
                    <a:ext cx="226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arn some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3942360" y="5384880"/>
                    <a:ext cx="2750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quality points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4087080" y="5483160"/>
                    <a:ext cx="168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Take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4070160" y="5514840"/>
                    <a:ext cx="20952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vent card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4098960" y="5613480"/>
                    <a:ext cx="3618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Conduct Iteratio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4138560" y="5646600"/>
                    <a:ext cx="244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Assessment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7" name=""/>
                <p:cNvSpPr/>
                <p:nvPr/>
              </p:nvSpPr>
              <p:spPr>
                <a:xfrm>
                  <a:off x="3984120" y="531504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079520" y="5445000"/>
                  <a:ext cx="0" cy="414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165200" y="557856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0" name=""/>
            <p:cNvGrpSpPr/>
            <p:nvPr/>
          </p:nvGrpSpPr>
          <p:grpSpPr>
            <a:xfrm>
              <a:off x="4441680" y="5219640"/>
              <a:ext cx="629640" cy="514440"/>
              <a:chOff x="4441680" y="5219640"/>
              <a:chExt cx="629640" cy="514440"/>
            </a:xfrm>
          </p:grpSpPr>
          <p:sp>
            <p:nvSpPr>
              <p:cNvPr id="401" name=""/>
              <p:cNvSpPr/>
              <p:nvPr/>
            </p:nvSpPr>
            <p:spPr>
              <a:xfrm>
                <a:off x="4771440" y="528804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2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860360" y="541980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3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952520" y="554832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4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044680" y="568800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5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5" name=""/>
              <p:cNvGrpSpPr/>
              <p:nvPr/>
            </p:nvGrpSpPr>
            <p:grpSpPr>
              <a:xfrm>
                <a:off x="4441680" y="5219640"/>
                <a:ext cx="626400" cy="488880"/>
                <a:chOff x="4441680" y="5219640"/>
                <a:chExt cx="626400" cy="48888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4528800" y="5357880"/>
                  <a:ext cx="31140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708440" y="5624640"/>
                  <a:ext cx="31104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441680" y="5226120"/>
                  <a:ext cx="31248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620960" y="5489640"/>
                  <a:ext cx="31284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0" name=""/>
                <p:cNvGrpSpPr/>
                <p:nvPr/>
              </p:nvGrpSpPr>
              <p:grpSpPr>
                <a:xfrm>
                  <a:off x="4461120" y="5219640"/>
                  <a:ext cx="606960" cy="488160"/>
                  <a:chOff x="4461120" y="5219640"/>
                  <a:chExt cx="606960" cy="48816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>
                    <a:off x="4491720" y="5219640"/>
                    <a:ext cx="2142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Fill out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461120" y="5253120"/>
                    <a:ext cx="267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Iteration Plan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566600" y="5351400"/>
                    <a:ext cx="226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arn some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4549320" y="5384880"/>
                    <a:ext cx="2750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quality points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4694040" y="5483160"/>
                    <a:ext cx="168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Take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4677480" y="5514840"/>
                    <a:ext cx="20952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vent card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706280" y="5613480"/>
                    <a:ext cx="3618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Conduct Iteratio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745520" y="5646600"/>
                    <a:ext cx="244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Assessment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"/>
                <p:cNvSpPr/>
                <p:nvPr/>
              </p:nvSpPr>
              <p:spPr>
                <a:xfrm>
                  <a:off x="4590720" y="531504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686120" y="5445000"/>
                  <a:ext cx="0" cy="414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771800" y="557856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2" name=""/>
            <p:cNvGrpSpPr/>
            <p:nvPr/>
          </p:nvGrpSpPr>
          <p:grpSpPr>
            <a:xfrm>
              <a:off x="5102280" y="5219640"/>
              <a:ext cx="628920" cy="514440"/>
              <a:chOff x="5102280" y="5219640"/>
              <a:chExt cx="628920" cy="514440"/>
            </a:xfrm>
          </p:grpSpPr>
          <p:sp>
            <p:nvSpPr>
              <p:cNvPr id="423" name=""/>
              <p:cNvSpPr/>
              <p:nvPr/>
            </p:nvSpPr>
            <p:spPr>
              <a:xfrm>
                <a:off x="5431680" y="528804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2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520600" y="541980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3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612400" y="554832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4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704560" y="568800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5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7" name=""/>
              <p:cNvGrpSpPr/>
              <p:nvPr/>
            </p:nvGrpSpPr>
            <p:grpSpPr>
              <a:xfrm>
                <a:off x="5102280" y="5219640"/>
                <a:ext cx="625320" cy="488880"/>
                <a:chOff x="5102280" y="5219640"/>
                <a:chExt cx="625320" cy="4888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5189040" y="5357880"/>
                  <a:ext cx="31104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368680" y="5624640"/>
                  <a:ext cx="31068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102280" y="5226120"/>
                  <a:ext cx="31212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5281200" y="5489640"/>
                  <a:ext cx="31248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5121360" y="5219640"/>
                  <a:ext cx="606240" cy="488160"/>
                  <a:chOff x="5121360" y="5219640"/>
                  <a:chExt cx="606240" cy="48816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5151600" y="5219640"/>
                    <a:ext cx="2142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Fill out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5121360" y="5253120"/>
                    <a:ext cx="267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Iteration Plan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226480" y="5351400"/>
                    <a:ext cx="226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arn some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5209200" y="5384880"/>
                    <a:ext cx="2750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quality points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5353920" y="5483160"/>
                    <a:ext cx="168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Take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5337000" y="5514840"/>
                    <a:ext cx="20952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vent card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5365800" y="5613480"/>
                    <a:ext cx="3618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Conduct Iteratio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5405400" y="5646600"/>
                    <a:ext cx="244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Assessment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1" name=""/>
                <p:cNvSpPr/>
                <p:nvPr/>
              </p:nvSpPr>
              <p:spPr>
                <a:xfrm>
                  <a:off x="5250960" y="531504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346360" y="5445000"/>
                  <a:ext cx="0" cy="414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432040" y="557856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4" name=""/>
            <p:cNvGrpSpPr/>
            <p:nvPr/>
          </p:nvGrpSpPr>
          <p:grpSpPr>
            <a:xfrm>
              <a:off x="5775480" y="5219640"/>
              <a:ext cx="628920" cy="514440"/>
              <a:chOff x="5775480" y="5219640"/>
              <a:chExt cx="628920" cy="514440"/>
            </a:xfrm>
          </p:grpSpPr>
          <p:sp>
            <p:nvSpPr>
              <p:cNvPr id="445" name=""/>
              <p:cNvSpPr/>
              <p:nvPr/>
            </p:nvSpPr>
            <p:spPr>
              <a:xfrm>
                <a:off x="6104880" y="528804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2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193800" y="541980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3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285600" y="554832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4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377760" y="568800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5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5775480" y="5219640"/>
                <a:ext cx="625320" cy="488880"/>
                <a:chOff x="5775480" y="5219640"/>
                <a:chExt cx="625320" cy="48888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5862240" y="5357880"/>
                  <a:ext cx="31104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041880" y="5624640"/>
                  <a:ext cx="31068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775480" y="5226120"/>
                  <a:ext cx="31212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954400" y="5489640"/>
                  <a:ext cx="31248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5794560" y="5219640"/>
                  <a:ext cx="606240" cy="488160"/>
                  <a:chOff x="5794560" y="5219640"/>
                  <a:chExt cx="606240" cy="48816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>
                    <a:off x="5824800" y="5219640"/>
                    <a:ext cx="2142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Fill out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5794560" y="5253120"/>
                    <a:ext cx="267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Iteration Plan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5899680" y="5351400"/>
                    <a:ext cx="226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arn some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5882400" y="5384880"/>
                    <a:ext cx="2750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quality points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6027120" y="5483160"/>
                    <a:ext cx="168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Take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6010200" y="5514840"/>
                    <a:ext cx="20952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vent card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6039000" y="5613480"/>
                    <a:ext cx="3618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Conduct Iteratio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6078600" y="5646600"/>
                    <a:ext cx="244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Assessment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3" name=""/>
                <p:cNvSpPr/>
                <p:nvPr/>
              </p:nvSpPr>
              <p:spPr>
                <a:xfrm>
                  <a:off x="5924160" y="531504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019560" y="5445000"/>
                  <a:ext cx="0" cy="414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105240" y="557856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66" name=""/>
          <p:cNvSpPr/>
          <p:nvPr/>
        </p:nvSpPr>
        <p:spPr>
          <a:xfrm>
            <a:off x="3054240" y="1130400"/>
            <a:ext cx="585648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noAutofit/>
          </a:bodyPr>
          <a:p>
            <a:pPr>
              <a:lnSpc>
                <a:spcPct val="9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taff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max 10 people, max 3 skills per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person, how you staff affects your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Burn R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($ per week)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Planned Schedu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weeks)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(#use-cases x 12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+  1  in  Elabora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#peopl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(#use-cases x  8 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+  1  in  Constru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#peopl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Planned C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$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Burn Rate x Planned Sched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834840" y="427680"/>
            <a:ext cx="5635080" cy="5411880"/>
            <a:chOff x="834840" y="427680"/>
            <a:chExt cx="5635080" cy="5411880"/>
          </a:xfrm>
        </p:grpSpPr>
        <p:sp>
          <p:nvSpPr>
            <p:cNvPr id="468" name=""/>
            <p:cNvSpPr/>
            <p:nvPr/>
          </p:nvSpPr>
          <p:spPr>
            <a:xfrm>
              <a:off x="1420920" y="1346040"/>
              <a:ext cx="1235160" cy="46908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lnTo>
                    <a:pt x="0" y="29"/>
                  </a:lnTo>
                  <a:cubicBezTo>
                    <a:pt x="0" y="32"/>
                    <a:pt x="3" y="35"/>
                    <a:pt x="6" y="35"/>
                  </a:cubicBezTo>
                  <a:lnTo>
                    <a:pt x="80" y="35"/>
                  </a:lnTo>
                  <a:cubicBezTo>
                    <a:pt x="83" y="35"/>
                    <a:pt x="85" y="32"/>
                    <a:pt x="85" y="29"/>
                  </a:cubicBezTo>
                  <a:lnTo>
                    <a:pt x="85" y="6"/>
                  </a:lnTo>
                  <a:cubicBezTo>
                    <a:pt x="85" y="3"/>
                    <a:pt x="83" y="0"/>
                    <a:pt x="80" y="0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834120" y="427320"/>
              <a:ext cx="5635080" cy="541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536" y="667"/>
                  </a:moveTo>
                  <a:arcTo wR="10800" hR="10800" stAng="-4185833" swAng="65413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4536" y="667"/>
                  </a:moveTo>
                  <a:arcTo wR="10800" hR="10800" stAng="-4185833" swAng="6541310"/>
                </a:path>
              </a:pathLst>
            </a:custGeom>
            <a:noFill/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1537560" y="1401840"/>
            <a:ext cx="928800" cy="408600"/>
            <a:chOff x="1537560" y="1401840"/>
            <a:chExt cx="928800" cy="408600"/>
          </a:xfrm>
        </p:grpSpPr>
        <p:sp>
          <p:nvSpPr>
            <p:cNvPr id="471" name=""/>
            <p:cNvSpPr/>
            <p:nvPr/>
          </p:nvSpPr>
          <p:spPr>
            <a:xfrm>
              <a:off x="1665000" y="1401840"/>
              <a:ext cx="73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Fill out a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537560" y="1596960"/>
              <a:ext cx="928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Iteration Pl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Filling Out an Iteration Plan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Meeting Exit Criteria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3956040" y="1981080"/>
            <a:ext cx="1227240" cy="1157040"/>
            <a:chOff x="3956040" y="1981080"/>
            <a:chExt cx="1227240" cy="1157040"/>
          </a:xfrm>
        </p:grpSpPr>
        <p:sp>
          <p:nvSpPr>
            <p:cNvPr id="476" name=""/>
            <p:cNvSpPr/>
            <p:nvPr/>
          </p:nvSpPr>
          <p:spPr>
            <a:xfrm>
              <a:off x="3956040" y="1981080"/>
              <a:ext cx="1227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xit Criteria</a:t>
              </a: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4367160" y="2756520"/>
              <a:ext cx="380880" cy="3812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200160" y="879480"/>
            <a:ext cx="8488080" cy="119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t">
            <a:normAutofit/>
          </a:bodyPr>
          <a:p>
            <a:pPr marL="339840" indent="-33984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Meet Elaboration Exit Criteria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before starting Con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00160" y="1990800"/>
            <a:ext cx="8488080" cy="4029120"/>
            <a:chOff x="200160" y="1990800"/>
            <a:chExt cx="8488080" cy="4029120"/>
          </a:xfrm>
        </p:grpSpPr>
        <p:sp>
          <p:nvSpPr>
            <p:cNvPr id="480" name=""/>
            <p:cNvSpPr/>
            <p:nvPr/>
          </p:nvSpPr>
          <p:spPr>
            <a:xfrm>
              <a:off x="200160" y="4824360"/>
              <a:ext cx="8488080" cy="1195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28600" rIns="228600" tIns="228600" bIns="228600" anchor="t">
              <a:normAutofit/>
            </a:bodyPr>
            <a:p>
              <a:pPr marL="339840" indent="-339840">
                <a:lnSpc>
                  <a:spcPct val="8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ff0033"/>
                  </a:solidFill>
                  <a:latin typeface="Arial"/>
                </a:rPr>
                <a:t>The game is over when you meet the Construction Exit Criteria!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5718240" y="1990800"/>
              <a:ext cx="1227240" cy="1156680"/>
              <a:chOff x="5718240" y="1990800"/>
              <a:chExt cx="1227240" cy="1156680"/>
            </a:xfrm>
          </p:grpSpPr>
          <p:sp>
            <p:nvSpPr>
              <p:cNvPr id="482" name=""/>
              <p:cNvSpPr/>
              <p:nvPr/>
            </p:nvSpPr>
            <p:spPr>
              <a:xfrm>
                <a:off x="5718240" y="1990800"/>
                <a:ext cx="12272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Exit Criteria</a:t>
                </a: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>
                <a:off x="6129360" y="2766600"/>
                <a:ext cx="380880" cy="380880"/>
              </a:xfrm>
              <a:prstGeom prst="triangle">
                <a:avLst>
                  <a:gd name="adj" fmla="val 50000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84" name=""/>
          <p:cNvGrpSpPr/>
          <p:nvPr/>
        </p:nvGrpSpPr>
        <p:grpSpPr>
          <a:xfrm>
            <a:off x="596880" y="3224160"/>
            <a:ext cx="8013600" cy="1412640"/>
            <a:chOff x="596880" y="3224160"/>
            <a:chExt cx="8013600" cy="1412640"/>
          </a:xfrm>
        </p:grpSpPr>
        <p:sp>
          <p:nvSpPr>
            <p:cNvPr id="485" name=""/>
            <p:cNvSpPr/>
            <p:nvPr/>
          </p:nvSpPr>
          <p:spPr>
            <a:xfrm>
              <a:off x="660240" y="3236760"/>
              <a:ext cx="7790040" cy="49536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136520" y="3336840"/>
              <a:ext cx="1084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Incep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964960" y="3336840"/>
              <a:ext cx="1299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Elabora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94480" y="3336840"/>
              <a:ext cx="1443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Constru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27840" y="3336840"/>
              <a:ext cx="1163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Transi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47640" y="3833640"/>
              <a:ext cx="79628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6880" y="3822840"/>
              <a:ext cx="616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63480" y="3232080"/>
              <a:ext cx="1976400" cy="50184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491160" y="3233880"/>
              <a:ext cx="1951200" cy="50004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2598840" y="3227400"/>
              <a:ext cx="120600" cy="1379160"/>
              <a:chOff x="2598840" y="3227400"/>
              <a:chExt cx="120600" cy="1379160"/>
            </a:xfrm>
          </p:grpSpPr>
          <p:sp>
            <p:nvSpPr>
              <p:cNvPr id="495" name=""/>
              <p:cNvSpPr/>
              <p:nvPr/>
            </p:nvSpPr>
            <p:spPr>
              <a:xfrm>
                <a:off x="2598840" y="3227400"/>
                <a:ext cx="120600" cy="219960"/>
              </a:xfrm>
              <a:custGeom>
                <a:avLst/>
                <a:gdLst/>
                <a:ahLst/>
                <a:rect l="l" t="t" r="r" b="b"/>
                <a:pathLst>
                  <a:path w="94" h="86">
                    <a:moveTo>
                      <a:pt x="47" y="0"/>
                    </a:moveTo>
                    <a:lnTo>
                      <a:pt x="94" y="86"/>
                    </a:lnTo>
                    <a:lnTo>
                      <a:pt x="47" y="0"/>
                    </a:lnTo>
                    <a:lnTo>
                      <a:pt x="0" y="86"/>
                    </a:lnTo>
                    <a:lnTo>
                      <a:pt x="94" y="86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62200" y="3377880"/>
                <a:ext cx="0" cy="1228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3233880" y="3713040"/>
              <a:ext cx="107640" cy="890280"/>
              <a:chOff x="3233880" y="3713040"/>
              <a:chExt cx="107640" cy="890280"/>
            </a:xfrm>
          </p:grpSpPr>
          <p:sp>
            <p:nvSpPr>
              <p:cNvPr id="498" name=""/>
              <p:cNvSpPr/>
              <p:nvPr/>
            </p:nvSpPr>
            <p:spPr>
              <a:xfrm>
                <a:off x="3292200" y="3922920"/>
                <a:ext cx="1080" cy="680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233880" y="3713040"/>
                <a:ext cx="107640" cy="197640"/>
              </a:xfrm>
              <a:custGeom>
                <a:avLst/>
                <a:gdLst/>
                <a:ahLst/>
                <a:rect l="l" t="t" r="r" b="b"/>
                <a:pathLst>
                  <a:path w="94" h="86">
                    <a:moveTo>
                      <a:pt x="47" y="0"/>
                    </a:moveTo>
                    <a:lnTo>
                      <a:pt x="94" y="86"/>
                    </a:lnTo>
                    <a:lnTo>
                      <a:pt x="47" y="0"/>
                    </a:lnTo>
                    <a:lnTo>
                      <a:pt x="0" y="86"/>
                    </a:lnTo>
                    <a:lnTo>
                      <a:pt x="94" y="86"/>
                    </a:lnTo>
                    <a:lnTo>
                      <a:pt x="47" y="0"/>
                    </a:ln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3898800" y="3711600"/>
              <a:ext cx="108000" cy="890280"/>
              <a:chOff x="3898800" y="3711600"/>
              <a:chExt cx="108000" cy="890280"/>
            </a:xfrm>
          </p:grpSpPr>
          <p:sp>
            <p:nvSpPr>
              <p:cNvPr id="501" name=""/>
              <p:cNvSpPr/>
              <p:nvPr/>
            </p:nvSpPr>
            <p:spPr>
              <a:xfrm>
                <a:off x="3957480" y="3921480"/>
                <a:ext cx="1440" cy="680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898800" y="3711600"/>
                <a:ext cx="108000" cy="197640"/>
              </a:xfrm>
              <a:custGeom>
                <a:avLst/>
                <a:gdLst/>
                <a:ahLst/>
                <a:rect l="l" t="t" r="r" b="b"/>
                <a:pathLst>
                  <a:path w="94" h="86">
                    <a:moveTo>
                      <a:pt x="47" y="0"/>
                    </a:moveTo>
                    <a:lnTo>
                      <a:pt x="94" y="86"/>
                    </a:lnTo>
                    <a:lnTo>
                      <a:pt x="47" y="0"/>
                    </a:lnTo>
                    <a:lnTo>
                      <a:pt x="0" y="86"/>
                    </a:lnTo>
                    <a:lnTo>
                      <a:pt x="94" y="86"/>
                    </a:lnTo>
                    <a:lnTo>
                      <a:pt x="47" y="0"/>
                    </a:ln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5137200" y="3722760"/>
              <a:ext cx="96840" cy="901440"/>
              <a:chOff x="5137200" y="3722760"/>
              <a:chExt cx="96840" cy="901440"/>
            </a:xfrm>
          </p:grpSpPr>
          <p:sp>
            <p:nvSpPr>
              <p:cNvPr id="504" name=""/>
              <p:cNvSpPr/>
              <p:nvPr/>
            </p:nvSpPr>
            <p:spPr>
              <a:xfrm>
                <a:off x="5189760" y="3935520"/>
                <a:ext cx="1080" cy="688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137200" y="3722760"/>
                <a:ext cx="96840" cy="199800"/>
              </a:xfrm>
              <a:custGeom>
                <a:avLst/>
                <a:gdLst/>
                <a:ahLst/>
                <a:rect l="l" t="t" r="r" b="b"/>
                <a:pathLst>
                  <a:path w="94" h="86">
                    <a:moveTo>
                      <a:pt x="47" y="0"/>
                    </a:moveTo>
                    <a:lnTo>
                      <a:pt x="94" y="86"/>
                    </a:lnTo>
                    <a:lnTo>
                      <a:pt x="47" y="0"/>
                    </a:lnTo>
                    <a:lnTo>
                      <a:pt x="0" y="86"/>
                    </a:lnTo>
                    <a:lnTo>
                      <a:pt x="94" y="86"/>
                    </a:lnTo>
                    <a:lnTo>
                      <a:pt x="47" y="0"/>
                    </a:ln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5797440" y="3722760"/>
              <a:ext cx="108000" cy="888480"/>
              <a:chOff x="5797440" y="3722760"/>
              <a:chExt cx="108000" cy="888480"/>
            </a:xfrm>
          </p:grpSpPr>
          <p:sp>
            <p:nvSpPr>
              <p:cNvPr id="507" name=""/>
              <p:cNvSpPr/>
              <p:nvPr/>
            </p:nvSpPr>
            <p:spPr>
              <a:xfrm>
                <a:off x="5856120" y="3932280"/>
                <a:ext cx="1440" cy="6789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797440" y="3722760"/>
                <a:ext cx="108000" cy="196920"/>
              </a:xfrm>
              <a:custGeom>
                <a:avLst/>
                <a:gdLst/>
                <a:ahLst/>
                <a:rect l="l" t="t" r="r" b="b"/>
                <a:pathLst>
                  <a:path w="94" h="86">
                    <a:moveTo>
                      <a:pt x="47" y="0"/>
                    </a:moveTo>
                    <a:lnTo>
                      <a:pt x="94" y="86"/>
                    </a:lnTo>
                    <a:lnTo>
                      <a:pt x="47" y="0"/>
                    </a:lnTo>
                    <a:lnTo>
                      <a:pt x="0" y="86"/>
                    </a:lnTo>
                    <a:lnTo>
                      <a:pt x="94" y="86"/>
                    </a:lnTo>
                    <a:lnTo>
                      <a:pt x="47" y="0"/>
                    </a:ln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4495680" y="3247920"/>
              <a:ext cx="111240" cy="1388880"/>
              <a:chOff x="4495680" y="3247920"/>
              <a:chExt cx="111240" cy="1388880"/>
            </a:xfrm>
          </p:grpSpPr>
          <p:sp>
            <p:nvSpPr>
              <p:cNvPr id="510" name=""/>
              <p:cNvSpPr/>
              <p:nvPr/>
            </p:nvSpPr>
            <p:spPr>
              <a:xfrm>
                <a:off x="4495680" y="3247920"/>
                <a:ext cx="111240" cy="221400"/>
              </a:xfrm>
              <a:custGeom>
                <a:avLst/>
                <a:gdLst/>
                <a:ahLst/>
                <a:rect l="l" t="t" r="r" b="b"/>
                <a:pathLst>
                  <a:path w="94" h="86">
                    <a:moveTo>
                      <a:pt x="47" y="0"/>
                    </a:moveTo>
                    <a:lnTo>
                      <a:pt x="94" y="86"/>
                    </a:lnTo>
                    <a:lnTo>
                      <a:pt x="47" y="0"/>
                    </a:lnTo>
                    <a:lnTo>
                      <a:pt x="0" y="86"/>
                    </a:lnTo>
                    <a:lnTo>
                      <a:pt x="94" y="86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54000" y="3399480"/>
                <a:ext cx="0" cy="12373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6418440" y="3224160"/>
              <a:ext cx="120600" cy="1379160"/>
              <a:chOff x="6418440" y="3224160"/>
              <a:chExt cx="120600" cy="1379160"/>
            </a:xfrm>
          </p:grpSpPr>
          <p:sp>
            <p:nvSpPr>
              <p:cNvPr id="513" name=""/>
              <p:cNvSpPr/>
              <p:nvPr/>
            </p:nvSpPr>
            <p:spPr>
              <a:xfrm>
                <a:off x="6418440" y="3224160"/>
                <a:ext cx="120600" cy="219960"/>
              </a:xfrm>
              <a:custGeom>
                <a:avLst/>
                <a:gdLst/>
                <a:ahLst/>
                <a:rect l="l" t="t" r="r" b="b"/>
                <a:pathLst>
                  <a:path w="94" h="86">
                    <a:moveTo>
                      <a:pt x="47" y="0"/>
                    </a:moveTo>
                    <a:lnTo>
                      <a:pt x="94" y="86"/>
                    </a:lnTo>
                    <a:lnTo>
                      <a:pt x="47" y="0"/>
                    </a:lnTo>
                    <a:lnTo>
                      <a:pt x="0" y="86"/>
                    </a:lnTo>
                    <a:lnTo>
                      <a:pt x="94" y="86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481800" y="3374640"/>
                <a:ext cx="0" cy="1228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2631960" y="3989520"/>
              <a:ext cx="629640" cy="514080"/>
              <a:chOff x="2631960" y="3989520"/>
              <a:chExt cx="629640" cy="514080"/>
            </a:xfrm>
          </p:grpSpPr>
          <p:sp>
            <p:nvSpPr>
              <p:cNvPr id="516" name=""/>
              <p:cNvSpPr/>
              <p:nvPr/>
            </p:nvSpPr>
            <p:spPr>
              <a:xfrm>
                <a:off x="2961720" y="405756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2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050640" y="418932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3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142800" y="431784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4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234960" y="445752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5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2631960" y="3989520"/>
                <a:ext cx="626400" cy="488880"/>
                <a:chOff x="2631960" y="3989520"/>
                <a:chExt cx="626400" cy="48888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2719080" y="4127760"/>
                  <a:ext cx="31140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898720" y="4394520"/>
                  <a:ext cx="31104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631960" y="3996000"/>
                  <a:ext cx="31248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811240" y="4259520"/>
                  <a:ext cx="31284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5" name=""/>
                <p:cNvGrpSpPr/>
                <p:nvPr/>
              </p:nvGrpSpPr>
              <p:grpSpPr>
                <a:xfrm>
                  <a:off x="2651400" y="3989520"/>
                  <a:ext cx="606960" cy="488160"/>
                  <a:chOff x="2651400" y="3989520"/>
                  <a:chExt cx="606960" cy="48816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>
                    <a:off x="2682000" y="3989520"/>
                    <a:ext cx="2142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Fill out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2651400" y="4023000"/>
                    <a:ext cx="267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Iteration Plan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2756880" y="4121280"/>
                    <a:ext cx="226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arn some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2739600" y="4154760"/>
                    <a:ext cx="2750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quality points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884320" y="4253040"/>
                    <a:ext cx="168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Take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2867760" y="4284720"/>
                    <a:ext cx="20952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vent card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2896560" y="4383360"/>
                    <a:ext cx="3618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Conduct Iteratio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2935800" y="4416480"/>
                    <a:ext cx="244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Assessment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4" name=""/>
                <p:cNvSpPr/>
                <p:nvPr/>
              </p:nvSpPr>
              <p:spPr>
                <a:xfrm>
                  <a:off x="2781000" y="408492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876400" y="4214880"/>
                  <a:ext cx="0" cy="414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962080" y="434844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7" name=""/>
            <p:cNvGrpSpPr/>
            <p:nvPr/>
          </p:nvGrpSpPr>
          <p:grpSpPr>
            <a:xfrm>
              <a:off x="3303720" y="3989520"/>
              <a:ext cx="628920" cy="514080"/>
              <a:chOff x="3303720" y="3989520"/>
              <a:chExt cx="628920" cy="514080"/>
            </a:xfrm>
          </p:grpSpPr>
          <p:sp>
            <p:nvSpPr>
              <p:cNvPr id="538" name=""/>
              <p:cNvSpPr/>
              <p:nvPr/>
            </p:nvSpPr>
            <p:spPr>
              <a:xfrm>
                <a:off x="3633120" y="405756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2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722040" y="418932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3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813840" y="431784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4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906000" y="445752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5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2" name=""/>
              <p:cNvGrpSpPr/>
              <p:nvPr/>
            </p:nvGrpSpPr>
            <p:grpSpPr>
              <a:xfrm>
                <a:off x="3303720" y="3989520"/>
                <a:ext cx="625320" cy="488880"/>
                <a:chOff x="3303720" y="3989520"/>
                <a:chExt cx="625320" cy="48888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3390480" y="4127760"/>
                  <a:ext cx="31104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570120" y="4394520"/>
                  <a:ext cx="31068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303720" y="3996000"/>
                  <a:ext cx="31212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482640" y="4259520"/>
                  <a:ext cx="31248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47" name=""/>
                <p:cNvGrpSpPr/>
                <p:nvPr/>
              </p:nvGrpSpPr>
              <p:grpSpPr>
                <a:xfrm>
                  <a:off x="3322800" y="3989520"/>
                  <a:ext cx="606240" cy="488160"/>
                  <a:chOff x="3322800" y="3989520"/>
                  <a:chExt cx="606240" cy="48816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>
                    <a:off x="3353040" y="3989520"/>
                    <a:ext cx="2142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Fill out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3322800" y="4023000"/>
                    <a:ext cx="267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Iteration Plan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3427920" y="4121280"/>
                    <a:ext cx="226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arn some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3410640" y="4154760"/>
                    <a:ext cx="2750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quality points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3555360" y="4253040"/>
                    <a:ext cx="168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Take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3538440" y="4284720"/>
                    <a:ext cx="20952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vent card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3567240" y="4383360"/>
                    <a:ext cx="3618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Conduct Iteratio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3606840" y="4416480"/>
                    <a:ext cx="244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Assessment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6" name=""/>
                <p:cNvSpPr/>
                <p:nvPr/>
              </p:nvSpPr>
              <p:spPr>
                <a:xfrm>
                  <a:off x="3452400" y="408492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547800" y="4214880"/>
                  <a:ext cx="0" cy="414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633480" y="434844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9" name=""/>
            <p:cNvGrpSpPr/>
            <p:nvPr/>
          </p:nvGrpSpPr>
          <p:grpSpPr>
            <a:xfrm>
              <a:off x="3975120" y="3989520"/>
              <a:ext cx="628920" cy="514080"/>
              <a:chOff x="3975120" y="3989520"/>
              <a:chExt cx="628920" cy="514080"/>
            </a:xfrm>
          </p:grpSpPr>
          <p:sp>
            <p:nvSpPr>
              <p:cNvPr id="560" name=""/>
              <p:cNvSpPr/>
              <p:nvPr/>
            </p:nvSpPr>
            <p:spPr>
              <a:xfrm>
                <a:off x="4304520" y="405756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2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93440" y="418932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3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85240" y="431784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4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577400" y="445752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5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3975120" y="3989520"/>
                <a:ext cx="625320" cy="488880"/>
                <a:chOff x="3975120" y="3989520"/>
                <a:chExt cx="625320" cy="48888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4061880" y="4127760"/>
                  <a:ext cx="31104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4241520" y="4394520"/>
                  <a:ext cx="31068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975120" y="3996000"/>
                  <a:ext cx="31212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154040" y="4259520"/>
                  <a:ext cx="31248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69" name=""/>
                <p:cNvGrpSpPr/>
                <p:nvPr/>
              </p:nvGrpSpPr>
              <p:grpSpPr>
                <a:xfrm>
                  <a:off x="3994200" y="3989520"/>
                  <a:ext cx="606240" cy="488160"/>
                  <a:chOff x="3994200" y="3989520"/>
                  <a:chExt cx="606240" cy="48816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>
                    <a:off x="4024440" y="3989520"/>
                    <a:ext cx="2142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Fill out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3994200" y="4023000"/>
                    <a:ext cx="267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Iteration Plan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4099320" y="4121280"/>
                    <a:ext cx="226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arn some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4082040" y="4154760"/>
                    <a:ext cx="2750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quality points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4226760" y="4253040"/>
                    <a:ext cx="168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Take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4209840" y="4284720"/>
                    <a:ext cx="20952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vent card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4238640" y="4383360"/>
                    <a:ext cx="3618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Conduct Iteratio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4278240" y="4416480"/>
                    <a:ext cx="244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Assessment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8" name=""/>
                <p:cNvSpPr/>
                <p:nvPr/>
              </p:nvSpPr>
              <p:spPr>
                <a:xfrm>
                  <a:off x="4123800" y="408492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219200" y="4214880"/>
                  <a:ext cx="0" cy="414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304880" y="434844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1" name=""/>
            <p:cNvGrpSpPr/>
            <p:nvPr/>
          </p:nvGrpSpPr>
          <p:grpSpPr>
            <a:xfrm>
              <a:off x="4581360" y="3989520"/>
              <a:ext cx="629640" cy="514080"/>
              <a:chOff x="4581360" y="3989520"/>
              <a:chExt cx="629640" cy="514080"/>
            </a:xfrm>
          </p:grpSpPr>
          <p:sp>
            <p:nvSpPr>
              <p:cNvPr id="582" name=""/>
              <p:cNvSpPr/>
              <p:nvPr/>
            </p:nvSpPr>
            <p:spPr>
              <a:xfrm>
                <a:off x="4911120" y="405756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2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000040" y="418932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3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092200" y="431784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4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184360" y="445752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5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6" name=""/>
              <p:cNvGrpSpPr/>
              <p:nvPr/>
            </p:nvGrpSpPr>
            <p:grpSpPr>
              <a:xfrm>
                <a:off x="4581360" y="3989520"/>
                <a:ext cx="626400" cy="488880"/>
                <a:chOff x="4581360" y="3989520"/>
                <a:chExt cx="626400" cy="48888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4668480" y="4127760"/>
                  <a:ext cx="31140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848120" y="4394520"/>
                  <a:ext cx="31104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581360" y="3996000"/>
                  <a:ext cx="31248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4760640" y="4259520"/>
                  <a:ext cx="31284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91" name=""/>
                <p:cNvGrpSpPr/>
                <p:nvPr/>
              </p:nvGrpSpPr>
              <p:grpSpPr>
                <a:xfrm>
                  <a:off x="4600800" y="3989520"/>
                  <a:ext cx="606960" cy="488160"/>
                  <a:chOff x="4600800" y="3989520"/>
                  <a:chExt cx="606960" cy="48816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>
                    <a:off x="4631400" y="3989520"/>
                    <a:ext cx="2142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Fill out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4600800" y="4023000"/>
                    <a:ext cx="267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Iteration Plan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4706280" y="4121280"/>
                    <a:ext cx="226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arn some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4689000" y="4154760"/>
                    <a:ext cx="2750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quality points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4833720" y="4253040"/>
                    <a:ext cx="168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Take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4817160" y="4284720"/>
                    <a:ext cx="20952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vent card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4845960" y="4383360"/>
                    <a:ext cx="3618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Conduct Iteratio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4885200" y="4416480"/>
                    <a:ext cx="244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Assessment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0" name=""/>
                <p:cNvSpPr/>
                <p:nvPr/>
              </p:nvSpPr>
              <p:spPr>
                <a:xfrm>
                  <a:off x="4730400" y="408492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4825800" y="4214880"/>
                  <a:ext cx="0" cy="414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4911480" y="434844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3" name=""/>
            <p:cNvGrpSpPr/>
            <p:nvPr/>
          </p:nvGrpSpPr>
          <p:grpSpPr>
            <a:xfrm>
              <a:off x="5241960" y="3989520"/>
              <a:ext cx="628920" cy="514080"/>
              <a:chOff x="5241960" y="3989520"/>
              <a:chExt cx="628920" cy="514080"/>
            </a:xfrm>
          </p:grpSpPr>
          <p:sp>
            <p:nvSpPr>
              <p:cNvPr id="604" name=""/>
              <p:cNvSpPr/>
              <p:nvPr/>
            </p:nvSpPr>
            <p:spPr>
              <a:xfrm>
                <a:off x="5571360" y="405756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2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60280" y="418932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3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752080" y="431784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4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844240" y="445752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5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8" name=""/>
              <p:cNvGrpSpPr/>
              <p:nvPr/>
            </p:nvGrpSpPr>
            <p:grpSpPr>
              <a:xfrm>
                <a:off x="5241960" y="3989520"/>
                <a:ext cx="625320" cy="488880"/>
                <a:chOff x="5241960" y="3989520"/>
                <a:chExt cx="625320" cy="48888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328720" y="4127760"/>
                  <a:ext cx="31104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508360" y="4394520"/>
                  <a:ext cx="31068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5241960" y="3996000"/>
                  <a:ext cx="31212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420880" y="4259520"/>
                  <a:ext cx="31248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13" name=""/>
                <p:cNvGrpSpPr/>
                <p:nvPr/>
              </p:nvGrpSpPr>
              <p:grpSpPr>
                <a:xfrm>
                  <a:off x="5261040" y="3989520"/>
                  <a:ext cx="606240" cy="488160"/>
                  <a:chOff x="5261040" y="3989520"/>
                  <a:chExt cx="606240" cy="488160"/>
                </a:xfrm>
              </p:grpSpPr>
              <p:sp>
                <p:nvSpPr>
                  <p:cNvPr id="614" name=""/>
                  <p:cNvSpPr/>
                  <p:nvPr/>
                </p:nvSpPr>
                <p:spPr>
                  <a:xfrm>
                    <a:off x="5291280" y="3989520"/>
                    <a:ext cx="2142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Fill out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5261040" y="4023000"/>
                    <a:ext cx="267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Iteration Plan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5366160" y="4121280"/>
                    <a:ext cx="226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arn some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5348880" y="4154760"/>
                    <a:ext cx="2750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quality points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5493600" y="4253040"/>
                    <a:ext cx="168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Take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5476680" y="4284720"/>
                    <a:ext cx="20952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vent card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5505480" y="4383360"/>
                    <a:ext cx="3618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Conduct Iteratio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5545080" y="4416480"/>
                    <a:ext cx="244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Assessment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2" name=""/>
                <p:cNvSpPr/>
                <p:nvPr/>
              </p:nvSpPr>
              <p:spPr>
                <a:xfrm>
                  <a:off x="5390640" y="408492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486040" y="4214880"/>
                  <a:ext cx="0" cy="414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571720" y="434844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5" name=""/>
            <p:cNvGrpSpPr/>
            <p:nvPr/>
          </p:nvGrpSpPr>
          <p:grpSpPr>
            <a:xfrm>
              <a:off x="5915160" y="3989520"/>
              <a:ext cx="628920" cy="514080"/>
              <a:chOff x="5915160" y="3989520"/>
              <a:chExt cx="628920" cy="514080"/>
            </a:xfrm>
          </p:grpSpPr>
          <p:sp>
            <p:nvSpPr>
              <p:cNvPr id="626" name=""/>
              <p:cNvSpPr/>
              <p:nvPr/>
            </p:nvSpPr>
            <p:spPr>
              <a:xfrm>
                <a:off x="6244560" y="405756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2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33480" y="418932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3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425280" y="431784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4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517440" y="4457520"/>
                <a:ext cx="26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 Narrow"/>
                  </a:rPr>
                  <a:t>5.</a:t>
                </a:r>
                <a:endParaRPr b="0" lang="en-US" sz="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0" name=""/>
              <p:cNvGrpSpPr/>
              <p:nvPr/>
            </p:nvGrpSpPr>
            <p:grpSpPr>
              <a:xfrm>
                <a:off x="5915160" y="3989520"/>
                <a:ext cx="625320" cy="488880"/>
                <a:chOff x="5915160" y="3989520"/>
                <a:chExt cx="625320" cy="48888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6001920" y="4127760"/>
                  <a:ext cx="31104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6181560" y="4394520"/>
                  <a:ext cx="31068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5915160" y="3996000"/>
                  <a:ext cx="312120" cy="8388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094080" y="4259520"/>
                  <a:ext cx="312480" cy="82440"/>
                </a:xfrm>
                <a:custGeom>
                  <a:avLst/>
                  <a:gdLst/>
                  <a:ahLst/>
                  <a:rect l="l" t="t" r="r" b="b"/>
                  <a:pathLst>
                    <a:path w="85" h="35">
                      <a:moveTo>
                        <a:pt x="6" y="0"/>
                      </a:moveTo>
                      <a:cubicBezTo>
                        <a:pt x="3" y="0"/>
                        <a:pt x="0" y="3"/>
                        <a:pt x="0" y="6"/>
                      </a:cubicBezTo>
                      <a:lnTo>
                        <a:pt x="0" y="29"/>
                      </a:lnTo>
                      <a:cubicBezTo>
                        <a:pt x="0" y="32"/>
                        <a:pt x="3" y="35"/>
                        <a:pt x="6" y="35"/>
                      </a:cubicBezTo>
                      <a:lnTo>
                        <a:pt x="80" y="35"/>
                      </a:lnTo>
                      <a:cubicBezTo>
                        <a:pt x="83" y="35"/>
                        <a:pt x="85" y="32"/>
                        <a:pt x="85" y="29"/>
                      </a:cubicBezTo>
                      <a:lnTo>
                        <a:pt x="85" y="6"/>
                      </a:lnTo>
                      <a:cubicBezTo>
                        <a:pt x="85" y="3"/>
                        <a:pt x="83" y="0"/>
                        <a:pt x="80" y="0"/>
                      </a:cubicBez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5" name=""/>
                <p:cNvGrpSpPr/>
                <p:nvPr/>
              </p:nvGrpSpPr>
              <p:grpSpPr>
                <a:xfrm>
                  <a:off x="5934240" y="3989520"/>
                  <a:ext cx="606240" cy="488160"/>
                  <a:chOff x="5934240" y="3989520"/>
                  <a:chExt cx="606240" cy="48816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>
                    <a:off x="5964480" y="3989520"/>
                    <a:ext cx="2142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Fill out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5934240" y="4023000"/>
                    <a:ext cx="267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Iteration Plan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6039360" y="4121280"/>
                    <a:ext cx="226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arn some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6022080" y="4154760"/>
                    <a:ext cx="2750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quality points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6166800" y="4253040"/>
                    <a:ext cx="16848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Take a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6149880" y="4284720"/>
                    <a:ext cx="20952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event card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6178680" y="4383360"/>
                    <a:ext cx="36180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Conduct Iteration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6218280" y="4416480"/>
                    <a:ext cx="244440" cy="61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 Narrow"/>
                      </a:rPr>
                      <a:t>Assessment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4" name=""/>
                <p:cNvSpPr/>
                <p:nvPr/>
              </p:nvSpPr>
              <p:spPr>
                <a:xfrm>
                  <a:off x="6063840" y="408492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159240" y="4214880"/>
                  <a:ext cx="0" cy="4140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6244920" y="4348440"/>
                  <a:ext cx="0" cy="410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440" rIns="10944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990720" y="1143000"/>
            <a:ext cx="800100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inner is the highest score, based on the formul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Quality Points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 / iteration in Elaboration (total 10); 3 / iteration in Construction (total 1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200 * # use cases left und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- 400 * # weeks beyond 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- 200 *  each 10K over 780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-----------------------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S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Narrow"/>
              </a:rPr>
              <a:t>Score Calculation</a:t>
            </a:r>
            <a:endParaRPr b="0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649" name=""/>
          <p:cNvSpPr/>
          <p:nvPr/>
        </p:nvSpPr>
        <p:spPr>
          <a:xfrm>
            <a:off x="4419720" y="5153040"/>
            <a:ext cx="4647960" cy="1069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EMBER: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d staffing means higher cos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r quality means a reduced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09480" y="2743200"/>
            <a:ext cx="457200" cy="16002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640" rIns="107640" tIns="53640" bIns="53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52280" y="2895480"/>
            <a:ext cx="49068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4000" bIns="54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RA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3T00:45:14Z</dcterms:created>
  <dc:creator>Gordon Schneemann</dc:creator>
  <dc:description>Revised Power Point master slide using the "standard" Rational Software logo</dc:description>
  <dc:language>en-US</dc:language>
  <cp:lastModifiedBy>Steve Peters</cp:lastModifiedBy>
  <cp:lastPrinted>2000-04-11T18:12:00Z</cp:lastPrinted>
  <dcterms:modified xsi:type="dcterms:W3CDTF">2000-04-11T18:21:07Z</dcterms:modified>
  <cp:revision>15</cp:revision>
  <dc:subject>RU_SlideStandard</dc:subject>
  <dc:title>No Slide Title</dc:title>
</cp:coreProperties>
</file>